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9536-A853-4C87-99FE-D7D1DB33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43A2-1BBC-428B-9FA8-8F6DDBDE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A5D9-8E71-45CF-8669-8705D0B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517E-551A-45EF-8FA5-23B7EC7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650-EC7C-4811-BB65-44389B1B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43F-4A0A-48ED-ADAD-C2643A4C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F2BC-CFAC-44CE-B057-CFF7691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14AD-F316-4373-A992-2E3DF410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DA6-A0C7-460E-BA19-3E2BAEA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AD9-5650-4494-97C9-A9FD2EB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A3DF-7DD4-495C-BAC9-323DC8D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8BB8-7B7C-4349-AC93-FB197FA6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400-F427-49D5-9BB3-2DC7BE1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A03-1E05-418A-BA89-90DE40A8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338-6347-47DC-9BB2-AAF2B84A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A20-8C11-4350-99F5-04F9D3D7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2B48-5DEC-4539-9B87-D8528C67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421D-3D9F-4983-8F06-4792519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3B0B-07C6-46B0-A533-D5838C4D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824E-F48D-4124-A107-B452694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0CD0-8FB9-486A-AB41-E288B7FE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29CF-32FC-4054-8B32-8F0C4F1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23B1-C295-4ABA-959C-1C28D93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0CE4-3D2A-46FF-B288-02F0B4BF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E38E-1EDB-45F8-A9F0-F94A87AD23F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B1F-D312-4AC0-860E-0A6CD712962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LE NOVITA’ FISCALI 2006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IQUOTE INPS GEST.SEPAR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ssimale : 84.0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a copertura 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nsione diretta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enza copertur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8,00 fino a 38.6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9,00 ol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N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ssimale : 85.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a copertura 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nsione diretta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enza copertur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8,20 fino a 39.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9,20 ol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Limitazioni alle collaborazioni nelle P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A possono conferire incarichi ad esperti di provata compete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ccorre individuare obiettivi e progetti specif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mministrazione deve preliminarmente accertare l’impossibilità oggettiva di utilizzare risorse umane inte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sigenza deve essere temporanea e richiedere prestazioni altamente qualif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vono essere preventivamente determinati durata, luogo, oggetto e compen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Collaboratori non resid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o tassato in Italia : gestione separata INPS, con aliquote non precis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me convenzionale ai fini delle II.DD.: l’Inps ha sostenuto l’applicazione dell’art. 15 e non del 14 modello OC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sintesi, il comportamento previdenziale suggerito 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viene applicata ritenuta Irpef, occorre versare l’In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non viene applicata ritenuta Irpef per Convenzione, non si versa In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gli occasionali, l’Inps ha taciuto, ma si ritiene occorra applicare le stesse regole dettate per i collabor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ASSI/GIURISPRUDENZA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RP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ILY AREA E ADDIZION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UONI P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ORTI/RITENUTE A SOGGETTI NON RESIDEN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PS PER CO.CO.CO. NON RES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SSAZIONE ORDINARIA E SEPARATA : CASI PARTIC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DUZIONI CARICHI FAMILI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rcolare 31/E del 6.6.05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applicabilità deduzioni per carichi di famiglia ai soggetti fiscalmente non residenti in Italia (art.24 Tui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bilità deduzioni per carichi di famiglia in diminuzione della base imponibile ai fini delle addizionali Irp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UONI PA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oluzione 153/E del 15.12.2004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ranchigia di euro 5,29 spetta solo se l’orario di lavoro prevede una pausa per il pra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s. 17 maggio 2005 n.63/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card, che operano su un circuito elettronico e consentono di verificare in tempo reale l’utilizzazione da parte del dipendente, non sono assimilabili ai tickets restaurant ma piuttosto ad un sistema di “mensa aziendale diffusa”. Non concorrono quindi a formare il reddito di lavoro dipendente, a prescindere dal superamento dell’importo di 5,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UONI P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PCM 18.11.05, registrato alla Corte dei Conti il 14.12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ecreto definisce i requisiti delle società che emettono buoni pasto, i relativi contenuti e le procedure che le PA devono seguire per l’aggiudic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e norme sono assai rilevanti per le implicazioni fiscali, particolare gli articoli 4, 5 e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oghi di fruibilità : anche gastronomie,, negozi di alimentari, supermercati, distributori automatici, purchè i prodotti erogati siano di consumo immedi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o : in giornate lavorative, anche se festive, dai prestatori di lavoro subordinato, anche part-time ed anche qualora l’orario di lavoro non preveda la pausa pranzo (contrasto con RM 153/E/0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mmessi alla fruizione anche i soggetti che hanno un rapporto di collaborazione non subordin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sede di utilizzo sono requisiti indispensabile la data e la firma dell’utilizzat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valore facciale è comprensivo dell’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SI PARTICO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STITUZIONE EMOLUMENTI : RIMBORSO AL LORDO RITENUTE = ONERE DEDUCIBILE (RIS. 110/E/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MBORSO CONTRIBUTI : E’ IMPONIBILE (RIS. 136/E/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ROVERSIE SU RITENUTE CASS. N. 23019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LTRI INTERVENTI IN MATERIA DI IRP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oluzione 9/E del 18.01.05 : istituzione nuovi codici tributo per la compensazione di rite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rcolare Ministero del Lavoro 2.2.05 : trattamento fiscale del lavoro inter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oluzione 68/E del 1.6.05 : disciplina tributaria dei contributi previdenziali sospesi a seguito di eventi calami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oluzione 71/E del 1.6.05 : disciplina della tassazione degli assegni di confine ex art. 51 comma 8 T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oluzione 155/E del 31.10.05 : deducibilità contributi per riscatto laurea coniuge dece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ULTERIORI INTERVENT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ordo 12.09.05 per contratti di co.co.co. tra Comune di Bologna e associazioni di categ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M 4 aprile 2005 : disciplina attuativa in materia di erogazione dell’assegno per il nucleo familiare al coni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M 30.09.05 : avvio del lavoro accessorio ex art. 72 del D.Lgs. 276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siglio di Stato parere 4.5.05 n.173 : omnicomprensività del trattamento economico della retribuzione dei dirigent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INTESI MATERIE TRAT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ITA’ N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ASSI E GIURISPRUDENZA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 fini II.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 fini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DULISTICA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d e 7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chiarazione annuale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PETTI FISCALI DELLA RIFORMA DEL T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luzione 9/E del 18.01.05 : istituzione nuovi codici tributo per la compensazione di ritenu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stato soppresso il codice 1678 che veniva utilizzato per compensare, in F24, i crediti da ritenute evidenziati nel modello 770. Sono stati istituiti 3 nuovi codici, per la stessa fattispecie, ma con la finalità di distinguere la provenienza del credit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781” : eccedenze di ritenute da lavoro dipendente, assimilati e assistenza fisc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782” : eccedenze di ritenute da lavoro autonomo, provvigioni e redditi diver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783” : eccedenze di ritenute da redditi di capitale (da 770 ordina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ircolare Ministero del Lavoro 2.2.05 : trattamento fiscale del lavoro intermittent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qualificazione tributaria è di lavoro dipendente anche per l’indennità di disponibilità; sulla stessa gravano anche i contributi previdenzi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le deduzioni NTA, la circolare rinvia ad un successivo intervento dell’Agenzia delle En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ritiene che la misura base possa spettare per intero mentre i 4.500 dovrebbero essere rapportati ai giorni di effettiva chiam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luzione 68/E del 1.6.05 : disciplina tributaria dei contributi previdenziali sospesi a seguito di eventi calamitosi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ontributi sospesi, nella misura in cui non sono trattenuti, non possono essere dedotti in sede di effettuazione delle riten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aranno dedotti per cassa quando, cessata la sospensione, verranno effettivamente tratte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caso di restituzione di contributi erroneamente trattenuti, questi concorrono a formare il reddito ex art. 17 comma 1 lett. n-bis); saranno poi ridedotti quanto ritratten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luzione 71/E del 1.6.05 : disciplina della tassazione degli assegni di confine ex art. 51 comma 8 Tuir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disciplina della tassazione su base di retribuzioni convenzionali per attività prestata all’estero non si applica al settore pubblico ma solo a quello pri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settore pubblico trova applicazione l’abbattimento del 50% di cui al comma 8 dell’art. 51 Tu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luzione 155/E del 31.10.05 : deducibilità contributi per riscatto laurea coniuge decedut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versamento fatto alla forma pensionistica cui apparteneva il coniuge deceduto è onere deducibile in quanto finalizzato alla maturazione del diritto alla pensione di reversibilità a favore dei superst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determinante il rapporto di causa-effetto tra versamento (da cui origina deduzione) e pensione (cioè somma fiscalmente imponibi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ASSI/GIURISPRUDENZA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TTURAZIONE ELETTRO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CHIVIAZIONE E CONSERVAZIONE ELETT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SPONSABILITA’/SOLIDARIETA’ DELL’ACQUI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TAZIONI SANIT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TAZIONI DIDATTICHE E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ITORIA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Commercio elettro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ervizi incl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nitura di software, aggiornamenti compr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izi relativi a siti o pagin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izi automaticamente generati da un p.c. attraverso internet o rete elettro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zi di asta on line o shopping 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cchetti di servizi internet di attività interattive che vanno oltre il semplice acce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ervizi escl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diodiffusione, televisione, accesso a internet e tele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ulenze rese da professionisti via 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zioni a mezzo collegamento rem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endite all’asta tradi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essioni di beni materializzati su supporto fisico (CD, libri, giornali, videocassette, ecc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Altre prestazioni di servi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Montaggio di un macchinario con parti fornite dal cli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si applica la lettera b) del comma 4 dell’art. 7 (luogo di esecuzione) a meno che i beni montati siano incorporati in un bene immo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ervizi forniti nell’organizzazione di un funer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seguono la regola del domicilio del prestatore (art. 7 comma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Traduzione di tes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si applica la lettera d) del quarto comma dell’art.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atiche di rimborso Iva pagata nei vari Sta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si applica la lettera d) del quarto comma dell’art.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2438280"/>
            <a:ext cx="2665440" cy="8812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692280"/>
            <a:ext cx="7632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PR917/198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NOVITA’ IRPEF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0000" y="2590920"/>
            <a:ext cx="160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1) ASPE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ENE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0920" y="2228760"/>
            <a:ext cx="4771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NUOVE ALIQUOTE (art. 12 diventa 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TRAZIONI CARICHI FAMIGLIA IN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DU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IMINAZIONE DETRAZIONI LAV. DI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SSAZ. ARRETRATI : per tassaz. Reddito medio rilevano NTA e Family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2665440" cy="57636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1080" y="4419720"/>
            <a:ext cx="238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2) OBBLIGHI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O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6840" y="4221000"/>
            <a:ext cx="51642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MPONIBILI AL NETTO FAMILY AREA (art. 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U SPECIFICA RICHI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VALIDE LE DICHIARAZIONI ANNO 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U MENSILITA’ AGGIUN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DEDUZIONE ASSISTENZA  SOGGET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UTOSUFFIC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DALITA’ CALCOLO IRP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ECCHIA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ddito compl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oneri ded. Art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TA art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se impon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Imp. X aliquote = imp. Lo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richi fam. (art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ltre detraz. (art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per oneri (art.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noni locaz. (art.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IMPOSTA 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UOVA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ddito compl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oneri ded. Art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TA art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duz. Carichi fam. (art.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se impon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Imp. X aliquote = imp. Lo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per oneri (art.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noni locaz. (art.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IMPOSTA 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NTESI NOVITA’ IRP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58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roga 36% (c. 12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voratori frontalieri (c. 1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duzione contributi assistenza sanitaria (c.1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alvaguardia e versamenti minimi (c.124,13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dizionali (c.165,27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mazione specialistica medici (c.3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onus figli e detrazione asili nido (c.331,3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ogazioni liberali (c.337,353,35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E NOVITA’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uove aliquote e massimali INPS gest. S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a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duzioni contrib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ssimali e minimali Inail per co.co.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imitazioni alle co.co.co nelle 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etraibilità iva a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va c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LIQUOTE IRP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o 15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15.001 a 29.000 : 2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29.001 a 32.600 :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32.601 a 70.000 : 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tre 70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4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5-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o 26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26.001 a 33.500 :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33.501 a 100.000: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tre 100.000 : 39% +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DUZIONI PER ONERI FAMILI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NEAMENTI GENE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200 annui: coniuge non legalmente sep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900 annui : figli e famil. a carico (vedi tavola succes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importi teorici, decrescenti al crescere del reddito complessivo (vedasi tavola form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ono essere rapportati a mese e decorrono dal mese in cui si sono verificate le condizioni (anche se per meno di 15 giorni) : nei casi di nascite/decessi/matrimoni/sepa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DEDUZIONI COMPLETE</a:t>
            </a:r>
            <a:br>
              <a:rPr sz="3200"/>
            </a:b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200 euro per il coniuge non legalmente ed effettivamente separato,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900 euro per ciascun figlio, compresi i figli naturali riconosciuti, i figli adottivi e gli affidati o affiliati, nonché per ogni altra persona indicata nell’art. 433 C.C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450 euro per ciascun figlio di età inferiore a tre anni,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200 per il primo figlio se l’altro genitore manca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700 euro per ogni figlio portatore di handicap ai sensi dell’art. 3 della L. 104/92.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GLI E ALTRI FAMI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gli : nel matrimonio, naturali riconosciuti, adottivi, affidati, affidati, anche se non convi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i : art. 433 c.c. (genitori, generi, nuore, suoceri, fratelli germano o unilaterali) se convi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I DI RED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uro 2.840,51al lordo oneri deducibili art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lordo NTA e famil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rese retribuzioni da enti/organismi internazionali, rappresentanze diplomatiche e consolari, Santa S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FORMULA FAMILY ARE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 =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78.000+ on. ded. + ded. Teoriche fam. - redd.comp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78.000</a:t>
            </a:r>
            <a:br>
              <a:rPr sz="24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SI POSSIBILI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 &gt; 1 (R=1) : deduzione intera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 &lt; 0 (R=0) : no deduzione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0 &lt; R &lt; 1 : deduzione percentuale (prime 4 cifre con tronc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SEMPI CIRCOLARE 2/E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ddito compless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eri deducib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 figli a carico 50% (1 inf. 3 an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duz. Teorica : (2900+3450)/2 = 3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orto: (78000+3175-20000)/78000= 0,7842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DUZIONE SPETTANTE (3175*0,7842)     2.489,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SEMPI CIRCOLARE 2/E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05120"/>
            <a:ext cx="8763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SEMPI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ddito complessiv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8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eri deducibi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.000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 figli a carico 40% (1 inf. 3 anni nato 20/6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duz. Teorica : (2900x2+3450x7/12)x0,4 = 3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pporto: (78000+3125+1000-38000)/78000= 0,565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DUZIONE SPETTANTE (3125*0,5657)     1.767,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CUD 2006 : NOVITA’ DEL  MODELLO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ddizionali, punti 6 e 7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soppresso il riferimento ai punti 1 e 2 poiché imponibile addiz.= 1+2-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unto 18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nuove deduzioni per carichi di famigl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trazioni d’impo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eliminati i punti 33 e 3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unto 2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detrazioni per spese mediche da indicarsi nel totale e non solo fino a capienz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iquota marginale e disapplicazione NTA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selle spostate alla 35 e 36 (anziché 3 e 4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ggetti non residenti e convenzio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introdotto il codice “AZ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arte previdenz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rimangono solo le informazioni che interessano il lavo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 REDDITI ASSIMILATI NEL C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qualificazio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lt.ded.11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UD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pre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b (dip.di terzi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c (borse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t. c-bis (co.co.co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s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coco non resid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no/s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e (intram.,c/terzi Univ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f (pubbliche funzioni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g (cariche elettive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i (assegni al coniuge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. l (LSU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nto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Proroga 36% ed iva agevo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prorogata a tutto il 2006 la detrazione per le spese sostenute per il recupero del patrimonio ediliz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etrazione sale dal 36% al 41%, ferme restando le altre condizioni e limit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il 31.1.2.2005 è scaduta invece la riduzione dal 20 al 10% dell’aliquota Iva per gli interventi di manutenzione ordinaria e straordinaria sugli immobili di natura abitativa (art,23-bis DL 355/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Bonus fig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figlio nato o adottato nel 2005 è concesso un assegno pari a 1000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figlio nato o adottato nel 2006, secondo o ulteriore per nascita ovvero adottato, è concesso un assegno pari a 1000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Ministero dell’Economia ha fornito l’elenco degli Uffici postali ove possono essere riscossi i predetti asseg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ndizione per la fruizione è l’appartenenza ad un nucleo familiare con un reddito complessivo, (riferito all’anno 2004 per i nati 2005 ed al 2005 per i nati 2006) non superiore a 50.000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edetta condizione è autocertificata dall’esercente la potes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Detrazione asili 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iodo agevolato è il 2005 : ne consegue la necessità di mod. 7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istituita una detrazione d’imposta del 19% per le spese documentate sostenute dai genitori per il pagamento di rette relative alla frequenza di asili 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limite massimo di spesa su cui applicare la detrazione è 632 euro per figl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etrazione è slegata dalla percentuale di carico ai fini delle dedu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STINAZIONE 5 PER 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titolo sperimentale per il 2006 è data facoltà al contribuente di destinare, fermi restando il carico impositivo ed il meccanismo dell’8 per mille, una quota pari al 5 per mille dell’imposta a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) sostegno del volontariato e delle Onl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) finanziamento della ricerca scientifica e dell’università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) finanziamento della ricerca sanitar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) attività sociali svolte nel Comune di residenza del contribuente ste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DPCM 20.01.06 (in G.U. 22 del 27.01.06, è stata predisposta la modulistica per l’iscrizione all’elenco dei fruitori, da effettuarsi entri il 10.02.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le università, sarà il Miur a inviare all’Agenzia delle Entrate l’elenco degli atenei che effettuano ricerca scientifica e possono beneficiare del 5 per mi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che il ministero della sanità dovrà inviare l’elenco dei soggetti che effettuano ricerca sanitaria e che quindi possono fruire del finanziamento in disco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PCM precisa che il meccanismo troverà attuazione nel 2006 con riferimento ai redditi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FISCALITA’ IMMO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spetti 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ee edificabili : rileva l’utilizzabilità a scopo edificatorio come prevista dallo strumento urbanistico generale (PRG), indipendentemente dagli strumenti attuativi (art. 11-quaterdecies, co. 16 DL 203/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nzione ex art. 7 co.1 lett. i) del D.Lgs. 504/92 : l’esenzione per gli immobili utilizzati dagli enti non commerciali per attività di assistenza e beneficenza, istruzione, educazione e cultura si intende applicabile a prescindere dalla natura eventualmente commerciale delle attività medesime (art.7 co. 2-bis DL 203/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SCALITA’ IMMO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spetti 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eterminazione del reddito degli immobili locati, non relativi all’esercizio d’impres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la riduzione del 15% del canone di locazione è fruibile fino a concorrenza delle spese di manutenzione ordinaria effettivamente sostenute (art. 7 DL 203/95, che modifica gli articoli 90 e 144 del Dpr 917/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mmobili di interesse storico e/o artist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è in ogni caso irrilevante il reddito locativo, in quanto l’unico criterio per la determinazione del reddito imponibile è il riferimento alla tariffa d’estimo più bassa della zona censuaria nella quale si trova l’immobile. L’Agenzia, con circolare n. 2 del 17.01.06 ha recepito tale regola anche per le locazioni ad uso diverso da quello abit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cp:lastPrinted>2005-01-12T16:44:32Z</cp:lastPrinted>
  <dcterms:modified xsi:type="dcterms:W3CDTF">2006-02-08T14:27:40Z</dcterms:modified>
  <cp:revision>187</cp:revision>
  <dc:subject/>
  <dc:title>PowerPoint Presentation</dc:title>
</cp:coreProperties>
</file>