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B71B8F-2BC2-4EE7-9B8D-AB75537E8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UONO ESEM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UONO ESEM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82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82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920"/>
              <a:chOff x="0" y="1066680"/>
              <a:chExt cx="2867040" cy="315792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428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428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428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916360" y="1700280"/>
            <a:ext cx="607536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LE MISSIONI : DISCIPLINA FISCALE 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ISSIONI FUORI COMUNE SEDE DI LAVO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GOLA GENE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IMBORSO SPESE VIAGGIO\TRASPOR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i tassate anche per rimborsi chilometr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E OPZIONI PER ALTRE SPESE E DIA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 LE P.A. LE DIARIE ITALIA SONO SOPPRESSE A PARTIRE DAL 1° GENNAIO 2006 (art. 1 co.213 ss. L.266/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) METODO FORFETT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aria non tassata fino 46,48\gior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77,47 est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 LE P.A. LE DIARIE ITALIA SONO SOPPRESSE A PARTIRE DAL 1° GENNAIO 2006 (art. 1 co.213 ss. L.266/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tto e alloggio: non rimborsati o, se rimborsati, tass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IQUIDAZIONE MISSIONE IN ITALIA CON AUTO/AER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68360" y="1916280"/>
            <a:ext cx="8229600" cy="4557600"/>
            <a:chOff x="468360" y="1916280"/>
            <a:chExt cx="8229600" cy="4557600"/>
          </a:xfrm>
        </p:grpSpPr>
        <p:sp>
          <p:nvSpPr>
            <p:cNvPr id="208" name=""/>
            <p:cNvSpPr txBox="1"/>
            <p:nvPr/>
          </p:nvSpPr>
          <p:spPr>
            <a:xfrm>
              <a:off x="6454800" y="4498920"/>
              <a:ext cx="2243160" cy="103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6,0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4222800" y="4498920"/>
              <a:ext cx="2232000" cy="103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468360" y="4498920"/>
              <a:ext cx="3754440" cy="103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ontrino parchegg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eropor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6454800" y="5529240"/>
              <a:ext cx="224316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22800" y="5529240"/>
              <a:ext cx="223200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468360" y="5529240"/>
              <a:ext cx="375444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biglietto aereo (valore facciale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6454800" y="3468600"/>
              <a:ext cx="2243160" cy="103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4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22800" y="3468600"/>
              <a:ext cx="2232000" cy="103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468360" y="3468600"/>
              <a:ext cx="3754440" cy="103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chilometric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0,22 x 200 K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6454800" y="2860560"/>
              <a:ext cx="2243160" cy="60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22800" y="2860560"/>
              <a:ext cx="2232000" cy="60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468360" y="2860560"/>
              <a:ext cx="3754440" cy="60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6454800" y="1916280"/>
              <a:ext cx="224316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4222800" y="1916280"/>
              <a:ext cx="223200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468360" y="1916280"/>
              <a:ext cx="375444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8360" y="191628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8360" y="28605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360" y="34686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360" y="44989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8360" y="647388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8360" y="1916280"/>
              <a:ext cx="0" cy="4557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22800" y="1916280"/>
              <a:ext cx="0" cy="455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54800" y="1916280"/>
              <a:ext cx="0" cy="455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97960" y="1916280"/>
              <a:ext cx="0" cy="4557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8360" y="55292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IQUIDAZIONE MISSIONE ALL’ESTERO CON AUTO/AER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68360" y="1773360"/>
            <a:ext cx="8229600" cy="5037120"/>
            <a:chOff x="468360" y="1773360"/>
            <a:chExt cx="8229600" cy="5037120"/>
          </a:xfrm>
        </p:grpSpPr>
        <p:sp>
          <p:nvSpPr>
            <p:cNvPr id="236" name=""/>
            <p:cNvSpPr txBox="1"/>
            <p:nvPr/>
          </p:nvSpPr>
          <p:spPr>
            <a:xfrm>
              <a:off x="6454800" y="4778280"/>
              <a:ext cx="2243160" cy="106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6,0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4222800" y="4778280"/>
              <a:ext cx="2232000" cy="106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468360" y="4778280"/>
              <a:ext cx="3754440" cy="106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ontrino parchegg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eropor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6454800" y="5838840"/>
              <a:ext cx="2243160" cy="9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22800" y="5838840"/>
              <a:ext cx="2232000" cy="9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468360" y="5838840"/>
              <a:ext cx="3754440" cy="9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biglietto aereo (valore facciale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6454800" y="3718080"/>
              <a:ext cx="2243160" cy="106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4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2800" y="3718080"/>
              <a:ext cx="2232000" cy="106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468360" y="3718080"/>
              <a:ext cx="3754440" cy="106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chilometric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0,22 x 200 K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6454800" y="2744640"/>
              <a:ext cx="2243160" cy="9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7,4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4222800" y="2744640"/>
              <a:ext cx="2232000" cy="9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53 (da lordizzare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468360" y="2744640"/>
              <a:ext cx="3754440" cy="9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 (90,0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454800" y="1773360"/>
              <a:ext cx="2243160" cy="9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4222800" y="1773360"/>
              <a:ext cx="2232000" cy="9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468360" y="1773360"/>
              <a:ext cx="3754440" cy="9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8360" y="177336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8360" y="27446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8360" y="37180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8360" y="4778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8360" y="681048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8360" y="1773360"/>
              <a:ext cx="0" cy="5037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22800" y="1773360"/>
              <a:ext cx="0" cy="503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54800" y="1773360"/>
              <a:ext cx="0" cy="503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697960" y="1773360"/>
              <a:ext cx="0" cy="5037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8360" y="58388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) METODO MI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1) Diaria non tassata fino 30,99 giorno (51,65 est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 LE P.A. LE DIARIE ITALIA SONO SOPPRESSE A PARTIRE DAL 1° GENNAIO 2006 (art. 1 co.213 ss. L.266/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imborsi solo vitto o solo alloggio non tass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IQUIDAZIONE MISSIONE ITALI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ER CONVEGNO CON PA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68360" y="2060640"/>
            <a:ext cx="8229600" cy="4032360"/>
            <a:chOff x="468360" y="2060640"/>
            <a:chExt cx="8229600" cy="4032360"/>
          </a:xfrm>
        </p:grpSpPr>
        <p:sp>
          <p:nvSpPr>
            <p:cNvPr id="267" name=""/>
            <p:cNvSpPr txBox="1"/>
            <p:nvPr/>
          </p:nvSpPr>
          <p:spPr>
            <a:xfrm>
              <a:off x="6454800" y="4032360"/>
              <a:ext cx="2243160" cy="10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22800" y="4032360"/>
              <a:ext cx="2232000" cy="10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468360" y="4032360"/>
              <a:ext cx="3754440" cy="10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cevute tax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6454800" y="5106960"/>
              <a:ext cx="224316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22800" y="5106960"/>
              <a:ext cx="223200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468360" y="5106960"/>
              <a:ext cx="375444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biglietto aereo (valore facciale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6454800" y="3046320"/>
              <a:ext cx="224316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22800" y="3046320"/>
              <a:ext cx="223200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468360" y="3046320"/>
              <a:ext cx="375444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6454800" y="2060640"/>
              <a:ext cx="224316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4222800" y="2060640"/>
              <a:ext cx="223200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468360" y="2060640"/>
              <a:ext cx="375444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8360" y="206064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8360" y="30463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8360" y="4032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8360" y="609300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8360" y="2060640"/>
              <a:ext cx="0" cy="4032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22800" y="2060640"/>
              <a:ext cx="0" cy="4032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54800" y="2060640"/>
              <a:ext cx="0" cy="4032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697960" y="2060640"/>
              <a:ext cx="0" cy="4032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8360" y="51069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IQUIDAZIONE MISSIONE ITALI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ER CONVEGNO CON PA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68360" y="2060640"/>
            <a:ext cx="8229600" cy="4417920"/>
            <a:chOff x="468360" y="2060640"/>
            <a:chExt cx="8229600" cy="4417920"/>
          </a:xfrm>
        </p:grpSpPr>
        <p:sp>
          <p:nvSpPr>
            <p:cNvPr id="291" name=""/>
            <p:cNvSpPr txBox="1"/>
            <p:nvPr/>
          </p:nvSpPr>
          <p:spPr>
            <a:xfrm>
              <a:off x="6454800" y="4032360"/>
              <a:ext cx="2243160" cy="10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22800" y="4032360"/>
              <a:ext cx="2232000" cy="10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468360" y="4032360"/>
              <a:ext cx="3754440" cy="10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cevute tax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6454800" y="5106960"/>
              <a:ext cx="22431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4222800" y="5106960"/>
              <a:ext cx="223200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468360" y="5106960"/>
              <a:ext cx="375444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biglietto aereo (valore facciale 20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6454800" y="3046320"/>
              <a:ext cx="224316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4222800" y="3046320"/>
              <a:ext cx="223200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468360" y="3046320"/>
              <a:ext cx="375444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 (tot. 35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6454800" y="2060640"/>
              <a:ext cx="224316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4222800" y="2060640"/>
              <a:ext cx="223200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468360" y="2060640"/>
              <a:ext cx="375444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8360" y="206064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8360" y="30463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8360" y="4032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8360" y="647856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8360" y="2060640"/>
              <a:ext cx="0" cy="4417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22800" y="2060640"/>
              <a:ext cx="0" cy="441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54800" y="2060640"/>
              <a:ext cx="0" cy="441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697960" y="2060640"/>
              <a:ext cx="0" cy="4417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8360" y="51069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IQUIDAZIONE MISSIONE ESTERO ALLOGGIO DI SERVIZ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68360" y="2060640"/>
            <a:ext cx="8229600" cy="4417920"/>
            <a:chOff x="468360" y="2060640"/>
            <a:chExt cx="8229600" cy="4417920"/>
          </a:xfrm>
        </p:grpSpPr>
        <p:sp>
          <p:nvSpPr>
            <p:cNvPr id="315" name=""/>
            <p:cNvSpPr txBox="1"/>
            <p:nvPr/>
          </p:nvSpPr>
          <p:spPr>
            <a:xfrm>
              <a:off x="6454800" y="4032360"/>
              <a:ext cx="2243160" cy="10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6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4222800" y="4032360"/>
              <a:ext cx="2232000" cy="10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468360" y="4032360"/>
              <a:ext cx="3754440" cy="10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ggiorazione biglietto(4,00 su 2 gg.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6454800" y="5106960"/>
              <a:ext cx="22431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22800" y="5106960"/>
              <a:ext cx="223200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468360" y="5106960"/>
              <a:ext cx="375444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biglietto aereo (valore facciale 20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6454800" y="3046320"/>
              <a:ext cx="224316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22800" y="3046320"/>
              <a:ext cx="223200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468360" y="3046320"/>
              <a:ext cx="375444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 (tot. 5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6454800" y="2060640"/>
              <a:ext cx="224316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4222800" y="2060640"/>
              <a:ext cx="223200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468360" y="2060640"/>
              <a:ext cx="375444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8360" y="206064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8360" y="30463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8360" y="4032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8360" y="647856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8360" y="2060640"/>
              <a:ext cx="0" cy="4417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22800" y="2060640"/>
              <a:ext cx="0" cy="441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54800" y="2060640"/>
              <a:ext cx="0" cy="441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697960" y="2060640"/>
              <a:ext cx="0" cy="4417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68360" y="51069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ETODO MISTO : VARIANTE MAGGIORMENTE DIFFU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2349360"/>
            <a:ext cx="82296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2) Diaria non tassata fino 15,49\giorno (25,82 este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 LE P.A. LE DIARIE ITALIA SONO SOPPRESSE A PARTIRE DAL 1° GENNAIO 2006 (art. 1 co.213 ss. L.266/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mborsi vitto e alloggio non tass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QUIDAZIONE MISSIONE IN ITAL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RATA 2 GIOR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68360" y="1916280"/>
            <a:ext cx="8229600" cy="3792600"/>
            <a:chOff x="468360" y="1916280"/>
            <a:chExt cx="8229600" cy="3792600"/>
          </a:xfrm>
        </p:grpSpPr>
        <p:sp>
          <p:nvSpPr>
            <p:cNvPr id="342" name=""/>
            <p:cNvSpPr txBox="1"/>
            <p:nvPr/>
          </p:nvSpPr>
          <p:spPr>
            <a:xfrm>
              <a:off x="6454800" y="4116240"/>
              <a:ext cx="22431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22800" y="4116240"/>
              <a:ext cx="2232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468360" y="4116240"/>
              <a:ext cx="37544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berg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6454800" y="4764240"/>
              <a:ext cx="224316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,9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4222800" y="4764240"/>
              <a:ext cx="223200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,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468360" y="4764240"/>
              <a:ext cx="375444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ereo (+5%,valore facciale 20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6454800" y="3468600"/>
              <a:ext cx="22431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8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22800" y="3468600"/>
              <a:ext cx="2232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468360" y="3468600"/>
              <a:ext cx="37544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. 4 past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6454800" y="2860560"/>
              <a:ext cx="2243160" cy="60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222800" y="2860560"/>
              <a:ext cx="2232000" cy="60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468360" y="2860560"/>
              <a:ext cx="3754440" cy="60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 (2 gg.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6454800" y="1916280"/>
              <a:ext cx="224316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4222800" y="1916280"/>
              <a:ext cx="223200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468360" y="1916280"/>
              <a:ext cx="375444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8360" y="191628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8360" y="28605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8360" y="34686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8360" y="41162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8360" y="570852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68360" y="1916280"/>
              <a:ext cx="0" cy="3792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22800" y="1916280"/>
              <a:ext cx="0" cy="3792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454800" y="1916280"/>
              <a:ext cx="0" cy="3792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97960" y="1916280"/>
              <a:ext cx="0" cy="3792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8360" y="47642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HIAVE DI LET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700280"/>
            <a:ext cx="8229600" cy="491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ALIFICAZIONE TRIBUTARIA DEL COMPEN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479"/>
              </a:spcBef>
              <a:buClr>
                <a:srgbClr val="9999cc"/>
              </a:buClr>
              <a:buSzPct val="7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voro dip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479"/>
              </a:spcBef>
              <a:buClr>
                <a:srgbClr val="9999cc"/>
              </a:buClr>
              <a:buSzPct val="7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pendenti di terz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479"/>
              </a:spcBef>
              <a:buClr>
                <a:srgbClr val="9999cc"/>
              </a:buClr>
              <a:buSzPct val="7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rsi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479"/>
              </a:spcBef>
              <a:buClr>
                <a:srgbClr val="9999cc"/>
              </a:buClr>
              <a:buSzPct val="7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.co.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479"/>
              </a:spcBef>
              <a:buClr>
                <a:srgbClr val="9999cc"/>
              </a:buClr>
              <a:buSzPct val="7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bliche funzi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479"/>
              </a:spcBef>
              <a:buClr>
                <a:srgbClr val="9999cc"/>
              </a:buClr>
              <a:buSzPct val="7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iche elet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479"/>
              </a:spcBef>
              <a:buClr>
                <a:srgbClr val="9999cc"/>
              </a:buClr>
              <a:buSzPct val="7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fessioni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479"/>
              </a:spcBef>
              <a:buClr>
                <a:srgbClr val="9999cc"/>
              </a:buClr>
              <a:buSzPct val="7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as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0200" indent="-228600" algn="just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479"/>
              </a:spcBef>
              <a:buClr>
                <a:srgbClr val="9999cc"/>
              </a:buClr>
              <a:buSzPct val="7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748720" y="6656400"/>
            <a:ext cx="407880" cy="2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IQUIDAZIONE MISSIONE ALL’EST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68360" y="1773360"/>
            <a:ext cx="8229600" cy="5037120"/>
            <a:chOff x="468360" y="1773360"/>
            <a:chExt cx="8229600" cy="5037120"/>
          </a:xfrm>
        </p:grpSpPr>
        <p:sp>
          <p:nvSpPr>
            <p:cNvPr id="370" name=""/>
            <p:cNvSpPr txBox="1"/>
            <p:nvPr/>
          </p:nvSpPr>
          <p:spPr>
            <a:xfrm>
              <a:off x="6454800" y="4778280"/>
              <a:ext cx="2243160" cy="106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22800" y="4778280"/>
              <a:ext cx="2232000" cy="106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468360" y="4778280"/>
              <a:ext cx="3754440" cy="106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berg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6454800" y="5838840"/>
              <a:ext cx="2243160" cy="9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22800" y="5838840"/>
              <a:ext cx="2232000" cy="9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468360" y="5838840"/>
              <a:ext cx="3754440" cy="9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biglietto aereo (valore facciale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6454800" y="3718080"/>
              <a:ext cx="2243160" cy="106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4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22800" y="3718080"/>
              <a:ext cx="2232000" cy="106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468360" y="3718080"/>
              <a:ext cx="3754440" cy="106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se past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6454800" y="2744640"/>
              <a:ext cx="2243160" cy="9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,8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4222800" y="2744640"/>
              <a:ext cx="2232000" cy="9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,18 (da lordizzare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468360" y="2744640"/>
              <a:ext cx="3754440" cy="9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 (40,0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>
              <a:off x="6454800" y="1773360"/>
              <a:ext cx="2243160" cy="9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4222800" y="1773360"/>
              <a:ext cx="2232000" cy="9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468360" y="1773360"/>
              <a:ext cx="3754440" cy="9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8360" y="177336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8360" y="27446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8360" y="37180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8360" y="4778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8360" y="681048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68360" y="1773360"/>
              <a:ext cx="0" cy="5037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22800" y="1773360"/>
              <a:ext cx="0" cy="503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54800" y="1773360"/>
              <a:ext cx="0" cy="503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697960" y="1773360"/>
              <a:ext cx="0" cy="5037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8360" y="58388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ISSIONE IN ITALIA 3GIOR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57200" y="1700280"/>
            <a:ext cx="8229600" cy="4944960"/>
            <a:chOff x="457200" y="1700280"/>
            <a:chExt cx="8229600" cy="4944960"/>
          </a:xfrm>
        </p:grpSpPr>
        <p:sp>
          <p:nvSpPr>
            <p:cNvPr id="398" name=""/>
            <p:cNvSpPr/>
            <p:nvPr/>
          </p:nvSpPr>
          <p:spPr>
            <a:xfrm>
              <a:off x="6443640" y="605628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4140360" y="605628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 txBox="1"/>
            <p:nvPr/>
          </p:nvSpPr>
          <p:spPr>
            <a:xfrm>
              <a:off x="457200" y="605628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fonich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6443640" y="5468760"/>
              <a:ext cx="224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5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40360" y="5468760"/>
              <a:ext cx="230364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457200" y="5468760"/>
              <a:ext cx="368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ereo (magg.5%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6443640" y="487980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30,0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4140360" y="487980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>
              <a:off x="457200" y="487980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cheggio aeropor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6443640" y="3878280"/>
              <a:ext cx="224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4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40360" y="3878280"/>
              <a:ext cx="230364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457200" y="3878280"/>
              <a:ext cx="368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. Km. Auto propria per aeropor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6443640" y="328932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40360" y="328932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457200" y="328932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tto e allogg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6443640" y="2701800"/>
              <a:ext cx="224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4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40360" y="2701800"/>
              <a:ext cx="230364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457200" y="2701800"/>
              <a:ext cx="368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6443640" y="1700280"/>
              <a:ext cx="224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4140360" y="1700280"/>
              <a:ext cx="230364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457200" y="1700280"/>
              <a:ext cx="368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170028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200" y="2701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7200" y="32893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7200" y="3878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7200" y="4879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7200" y="54687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200" y="6056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7200" y="664524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7200" y="1700280"/>
              <a:ext cx="0" cy="4944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40360" y="1700280"/>
              <a:ext cx="0" cy="4944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43640" y="1700280"/>
              <a:ext cx="0" cy="4944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686800" y="1700280"/>
              <a:ext cx="0" cy="4944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ISSIONE IN ITALIA 1GIO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57200" y="1700280"/>
            <a:ext cx="8229600" cy="4944960"/>
            <a:chOff x="457200" y="1700280"/>
            <a:chExt cx="8229600" cy="4944960"/>
          </a:xfrm>
        </p:grpSpPr>
        <p:sp>
          <p:nvSpPr>
            <p:cNvPr id="434" name=""/>
            <p:cNvSpPr/>
            <p:nvPr/>
          </p:nvSpPr>
          <p:spPr>
            <a:xfrm>
              <a:off x="6443640" y="605628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4140360" y="605628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457200" y="605628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fonich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6443640" y="5468760"/>
              <a:ext cx="224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3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4140360" y="5468760"/>
              <a:ext cx="230364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 txBox="1"/>
            <p:nvPr/>
          </p:nvSpPr>
          <p:spPr>
            <a:xfrm>
              <a:off x="457200" y="5468760"/>
              <a:ext cx="368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ereo (magg.5%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6443640" y="487980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30,0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4140360" y="487980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457200" y="487980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cheggio aeropor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6443640" y="3878280"/>
              <a:ext cx="224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4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40360" y="3878280"/>
              <a:ext cx="230364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457200" y="3878280"/>
              <a:ext cx="368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. Km. Auto propria per aeropor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>
              <a:off x="6443640" y="328932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40360" y="328932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457200" y="328932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tto e allogg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6443640" y="2701800"/>
              <a:ext cx="224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4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40360" y="2701800"/>
              <a:ext cx="230364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457200" y="2701800"/>
              <a:ext cx="368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6443640" y="1700280"/>
              <a:ext cx="224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4140360" y="1700280"/>
              <a:ext cx="230364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457200" y="1700280"/>
              <a:ext cx="368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170028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7200" y="2701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7200" y="32893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7200" y="3878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7200" y="4879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7200" y="54687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7200" y="6056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7200" y="664524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57200" y="1700280"/>
              <a:ext cx="0" cy="4944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40360" y="1700280"/>
              <a:ext cx="0" cy="4944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43640" y="1700280"/>
              <a:ext cx="0" cy="4944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686800" y="1700280"/>
              <a:ext cx="0" cy="4944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IQUIDAZIONE MISSIONE ITALI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ER CONVEGNO CON PA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468360" y="2060640"/>
            <a:ext cx="8229600" cy="4032360"/>
            <a:chOff x="468360" y="2060640"/>
            <a:chExt cx="8229600" cy="4032360"/>
          </a:xfrm>
        </p:grpSpPr>
        <p:sp>
          <p:nvSpPr>
            <p:cNvPr id="470" name=""/>
            <p:cNvSpPr txBox="1"/>
            <p:nvPr/>
          </p:nvSpPr>
          <p:spPr>
            <a:xfrm>
              <a:off x="6454800" y="4032360"/>
              <a:ext cx="2243160" cy="10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22800" y="4032360"/>
              <a:ext cx="2232000" cy="10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>
              <a:off x="468360" y="4032360"/>
              <a:ext cx="3754440" cy="10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spor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 txBox="1"/>
            <p:nvPr/>
          </p:nvSpPr>
          <p:spPr>
            <a:xfrm>
              <a:off x="6454800" y="5106960"/>
              <a:ext cx="224316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22800" y="5106960"/>
              <a:ext cx="223200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468360" y="5106960"/>
              <a:ext cx="375444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berg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6454800" y="3046320"/>
              <a:ext cx="224316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,4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4222800" y="3046320"/>
              <a:ext cx="223200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 txBox="1"/>
            <p:nvPr/>
          </p:nvSpPr>
          <p:spPr>
            <a:xfrm>
              <a:off x="468360" y="3046320"/>
              <a:ext cx="375444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 (tot. 2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 txBox="1"/>
            <p:nvPr/>
          </p:nvSpPr>
          <p:spPr>
            <a:xfrm>
              <a:off x="6454800" y="2060640"/>
              <a:ext cx="224316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>
              <a:off x="4222800" y="2060640"/>
              <a:ext cx="223200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>
              <a:off x="468360" y="2060640"/>
              <a:ext cx="375444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68360" y="206064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8360" y="30463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8360" y="4032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8360" y="609300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8360" y="2060640"/>
              <a:ext cx="0" cy="4032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22800" y="2060640"/>
              <a:ext cx="0" cy="4032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54800" y="2060640"/>
              <a:ext cx="0" cy="4032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697960" y="2060640"/>
              <a:ext cx="0" cy="4032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8360" y="51069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IQUIDAZIONE MISSIONE ITALI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ER CONVEGNO CON PA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68360" y="2060640"/>
            <a:ext cx="8229600" cy="4417920"/>
            <a:chOff x="468360" y="2060640"/>
            <a:chExt cx="8229600" cy="4417920"/>
          </a:xfrm>
        </p:grpSpPr>
        <p:sp>
          <p:nvSpPr>
            <p:cNvPr id="494" name=""/>
            <p:cNvSpPr txBox="1"/>
            <p:nvPr/>
          </p:nvSpPr>
          <p:spPr>
            <a:xfrm>
              <a:off x="6454800" y="4032360"/>
              <a:ext cx="2243160" cy="10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22800" y="4032360"/>
              <a:ext cx="2232000" cy="10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 txBox="1"/>
            <p:nvPr/>
          </p:nvSpPr>
          <p:spPr>
            <a:xfrm>
              <a:off x="468360" y="4032360"/>
              <a:ext cx="3754440" cy="10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tto e allogg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6454800" y="5106960"/>
              <a:ext cx="22431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4222800" y="5106960"/>
              <a:ext cx="223200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 txBox="1"/>
            <p:nvPr/>
          </p:nvSpPr>
          <p:spPr>
            <a:xfrm>
              <a:off x="468360" y="5106960"/>
              <a:ext cx="375444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biglietto aereo (valore facciale 20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6454800" y="3046320"/>
              <a:ext cx="224316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,4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4222800" y="3046320"/>
              <a:ext cx="223200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 txBox="1"/>
            <p:nvPr/>
          </p:nvSpPr>
          <p:spPr>
            <a:xfrm>
              <a:off x="468360" y="3046320"/>
              <a:ext cx="375444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 (tot. 2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>
              <a:off x="6454800" y="2060640"/>
              <a:ext cx="224316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>
              <a:off x="4222800" y="2060640"/>
              <a:ext cx="223200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 txBox="1"/>
            <p:nvPr/>
          </p:nvSpPr>
          <p:spPr>
            <a:xfrm>
              <a:off x="468360" y="2060640"/>
              <a:ext cx="375444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8360" y="206064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68360" y="30463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8360" y="4032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8360" y="647856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68360" y="2060640"/>
              <a:ext cx="0" cy="4417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22800" y="2060640"/>
              <a:ext cx="0" cy="441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54800" y="2060640"/>
              <a:ext cx="0" cy="441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697960" y="2060640"/>
              <a:ext cx="0" cy="4417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68360" y="51069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IQUIDAZIONE MISSIONE ITALI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ER CONVEGNO CON PA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468360" y="2060640"/>
            <a:ext cx="8229600" cy="4417920"/>
            <a:chOff x="468360" y="2060640"/>
            <a:chExt cx="8229600" cy="4417920"/>
          </a:xfrm>
        </p:grpSpPr>
        <p:sp>
          <p:nvSpPr>
            <p:cNvPr id="518" name=""/>
            <p:cNvSpPr txBox="1"/>
            <p:nvPr/>
          </p:nvSpPr>
          <p:spPr>
            <a:xfrm>
              <a:off x="6454800" y="4032360"/>
              <a:ext cx="2243160" cy="10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22800" y="4032360"/>
              <a:ext cx="2232000" cy="10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468360" y="4032360"/>
              <a:ext cx="3754440" cy="10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logg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6454800" y="5106960"/>
              <a:ext cx="22431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5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222800" y="5106960"/>
              <a:ext cx="223200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 txBox="1"/>
            <p:nvPr/>
          </p:nvSpPr>
          <p:spPr>
            <a:xfrm>
              <a:off x="468360" y="5106960"/>
              <a:ext cx="375444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biglietto aereo (valore facciale 20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>
              <a:off x="6454800" y="3046320"/>
              <a:ext cx="224316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4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22800" y="3046320"/>
              <a:ext cx="223200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 txBox="1"/>
            <p:nvPr/>
          </p:nvSpPr>
          <p:spPr>
            <a:xfrm>
              <a:off x="468360" y="3046320"/>
              <a:ext cx="375444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6454800" y="2060640"/>
              <a:ext cx="224316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4222800" y="2060640"/>
              <a:ext cx="223200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 txBox="1"/>
            <p:nvPr/>
          </p:nvSpPr>
          <p:spPr>
            <a:xfrm>
              <a:off x="468360" y="2060640"/>
              <a:ext cx="3754440" cy="9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68360" y="206064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8360" y="30463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8360" y="4032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8360" y="647856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68360" y="2060640"/>
              <a:ext cx="0" cy="4417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22800" y="2060640"/>
              <a:ext cx="0" cy="441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54800" y="2060640"/>
              <a:ext cx="0" cy="441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697960" y="2060640"/>
              <a:ext cx="0" cy="4417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8360" y="51069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) METODO ANALI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mborsi vitto e alloggio non tass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mborso altre spese, documentate e non, non tassato fino a 15,49\gior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25,82 este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ISSIONE IN ITALIA 1 GIO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457200" y="1700280"/>
            <a:ext cx="8229600" cy="4944960"/>
            <a:chOff x="457200" y="1700280"/>
            <a:chExt cx="8229600" cy="4944960"/>
          </a:xfrm>
        </p:grpSpPr>
        <p:sp>
          <p:nvSpPr>
            <p:cNvPr id="545" name=""/>
            <p:cNvSpPr txBox="1"/>
            <p:nvPr/>
          </p:nvSpPr>
          <p:spPr>
            <a:xfrm>
              <a:off x="6443640" y="605628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,4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40360" y="605628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457200" y="605628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fonich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 txBox="1"/>
            <p:nvPr/>
          </p:nvSpPr>
          <p:spPr>
            <a:xfrm>
              <a:off x="6443640" y="5468760"/>
              <a:ext cx="224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>
              <a:off x="4140360" y="5468760"/>
              <a:ext cx="230364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 txBox="1"/>
            <p:nvPr/>
          </p:nvSpPr>
          <p:spPr>
            <a:xfrm>
              <a:off x="457200" y="5468760"/>
              <a:ext cx="368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ereo (magg.5%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6443640" y="487980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30,0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 txBox="1"/>
            <p:nvPr/>
          </p:nvSpPr>
          <p:spPr>
            <a:xfrm>
              <a:off x="4140360" y="487980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 txBox="1"/>
            <p:nvPr/>
          </p:nvSpPr>
          <p:spPr>
            <a:xfrm>
              <a:off x="457200" y="487980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cheggio aeropor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 txBox="1"/>
            <p:nvPr/>
          </p:nvSpPr>
          <p:spPr>
            <a:xfrm>
              <a:off x="6443640" y="3878280"/>
              <a:ext cx="224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4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40360" y="3878280"/>
              <a:ext cx="230364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 txBox="1"/>
            <p:nvPr/>
          </p:nvSpPr>
          <p:spPr>
            <a:xfrm>
              <a:off x="457200" y="3878280"/>
              <a:ext cx="368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. Km. Auto propria per aeropor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>
              <a:off x="6443640" y="328932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140360" y="328932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 txBox="1"/>
            <p:nvPr/>
          </p:nvSpPr>
          <p:spPr>
            <a:xfrm>
              <a:off x="457200" y="328932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tto e allogg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443640" y="2701800"/>
              <a:ext cx="224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 txBox="1"/>
            <p:nvPr/>
          </p:nvSpPr>
          <p:spPr>
            <a:xfrm>
              <a:off x="4140360" y="2701800"/>
              <a:ext cx="230364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 txBox="1"/>
            <p:nvPr/>
          </p:nvSpPr>
          <p:spPr>
            <a:xfrm>
              <a:off x="457200" y="2701800"/>
              <a:ext cx="368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 txBox="1"/>
            <p:nvPr/>
          </p:nvSpPr>
          <p:spPr>
            <a:xfrm>
              <a:off x="6443640" y="1700280"/>
              <a:ext cx="224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 txBox="1"/>
            <p:nvPr/>
          </p:nvSpPr>
          <p:spPr>
            <a:xfrm>
              <a:off x="4140360" y="1700280"/>
              <a:ext cx="230364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 txBox="1"/>
            <p:nvPr/>
          </p:nvSpPr>
          <p:spPr>
            <a:xfrm>
              <a:off x="457200" y="1700280"/>
              <a:ext cx="368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7200" y="170028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7200" y="2701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7200" y="32893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200" y="3878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7200" y="4879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200" y="54687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7200" y="6056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7200" y="664524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7200" y="1700280"/>
              <a:ext cx="0" cy="4944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40360" y="1700280"/>
              <a:ext cx="0" cy="4944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43640" y="1700280"/>
              <a:ext cx="0" cy="4944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686800" y="1700280"/>
              <a:ext cx="0" cy="4944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ISSIONE IN ITALIA 1 GIO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200" y="1700280"/>
            <a:ext cx="8229600" cy="4944960"/>
            <a:chOff x="457200" y="1700280"/>
            <a:chExt cx="8229600" cy="4944960"/>
          </a:xfrm>
        </p:grpSpPr>
        <p:sp>
          <p:nvSpPr>
            <p:cNvPr id="581" name=""/>
            <p:cNvSpPr txBox="1"/>
            <p:nvPr/>
          </p:nvSpPr>
          <p:spPr>
            <a:xfrm>
              <a:off x="6443640" y="605628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,4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 txBox="1"/>
            <p:nvPr/>
          </p:nvSpPr>
          <p:spPr>
            <a:xfrm>
              <a:off x="4140360" y="605628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 txBox="1"/>
            <p:nvPr/>
          </p:nvSpPr>
          <p:spPr>
            <a:xfrm>
              <a:off x="457200" y="605628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foniche (tot.2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 txBox="1"/>
            <p:nvPr/>
          </p:nvSpPr>
          <p:spPr>
            <a:xfrm>
              <a:off x="6443640" y="5468760"/>
              <a:ext cx="224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 txBox="1"/>
            <p:nvPr/>
          </p:nvSpPr>
          <p:spPr>
            <a:xfrm>
              <a:off x="4140360" y="5468760"/>
              <a:ext cx="230364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 txBox="1"/>
            <p:nvPr/>
          </p:nvSpPr>
          <p:spPr>
            <a:xfrm>
              <a:off x="457200" y="5468760"/>
              <a:ext cx="368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ereo (magg.5%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 txBox="1"/>
            <p:nvPr/>
          </p:nvSpPr>
          <p:spPr>
            <a:xfrm>
              <a:off x="6443640" y="487980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30,0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 txBox="1"/>
            <p:nvPr/>
          </p:nvSpPr>
          <p:spPr>
            <a:xfrm>
              <a:off x="4140360" y="487980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 txBox="1"/>
            <p:nvPr/>
          </p:nvSpPr>
          <p:spPr>
            <a:xfrm>
              <a:off x="457200" y="487980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cheggio aeropor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 txBox="1"/>
            <p:nvPr/>
          </p:nvSpPr>
          <p:spPr>
            <a:xfrm>
              <a:off x="6443640" y="3878280"/>
              <a:ext cx="224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4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40360" y="3878280"/>
              <a:ext cx="230364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 txBox="1"/>
            <p:nvPr/>
          </p:nvSpPr>
          <p:spPr>
            <a:xfrm>
              <a:off x="457200" y="3878280"/>
              <a:ext cx="368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. Km. Auto propria per aeropor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 txBox="1"/>
            <p:nvPr/>
          </p:nvSpPr>
          <p:spPr>
            <a:xfrm>
              <a:off x="6443640" y="328932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140360" y="328932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457200" y="328932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tto e allogg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43640" y="2701800"/>
              <a:ext cx="224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4140360" y="2701800"/>
              <a:ext cx="230364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457200" y="2701800"/>
              <a:ext cx="368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>
              <a:off x="6443640" y="1700280"/>
              <a:ext cx="224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>
              <a:off x="4140360" y="1700280"/>
              <a:ext cx="230364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457200" y="1700280"/>
              <a:ext cx="368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7200" y="170028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7200" y="2701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7200" y="32893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57200" y="3878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57200" y="4879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7200" y="54687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7200" y="6056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7200" y="664524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7200" y="1700280"/>
              <a:ext cx="0" cy="4944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140360" y="1700280"/>
              <a:ext cx="0" cy="4944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43640" y="1700280"/>
              <a:ext cx="0" cy="4944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686800" y="1700280"/>
              <a:ext cx="0" cy="4944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ISSIONE IN ITALIA 1 GIO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57200" y="1700280"/>
            <a:ext cx="8229600" cy="4944960"/>
            <a:chOff x="457200" y="1700280"/>
            <a:chExt cx="8229600" cy="4944960"/>
          </a:xfrm>
        </p:grpSpPr>
        <p:sp>
          <p:nvSpPr>
            <p:cNvPr id="617" name=""/>
            <p:cNvSpPr txBox="1"/>
            <p:nvPr/>
          </p:nvSpPr>
          <p:spPr>
            <a:xfrm>
              <a:off x="6443640" y="605628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,4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40360" y="605628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 txBox="1"/>
            <p:nvPr/>
          </p:nvSpPr>
          <p:spPr>
            <a:xfrm>
              <a:off x="457200" y="605628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fonich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 txBox="1"/>
            <p:nvPr/>
          </p:nvSpPr>
          <p:spPr>
            <a:xfrm>
              <a:off x="6443640" y="5468760"/>
              <a:ext cx="224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 txBox="1"/>
            <p:nvPr/>
          </p:nvSpPr>
          <p:spPr>
            <a:xfrm>
              <a:off x="4140360" y="5468760"/>
              <a:ext cx="230364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>
              <a:off x="457200" y="5468760"/>
              <a:ext cx="368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ereo (magg.5%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 txBox="1"/>
            <p:nvPr/>
          </p:nvSpPr>
          <p:spPr>
            <a:xfrm>
              <a:off x="6443640" y="487980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40360" y="487980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 txBox="1"/>
            <p:nvPr/>
          </p:nvSpPr>
          <p:spPr>
            <a:xfrm>
              <a:off x="457200" y="487980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cheggio aeropor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 txBox="1"/>
            <p:nvPr/>
          </p:nvSpPr>
          <p:spPr>
            <a:xfrm>
              <a:off x="6443640" y="3878280"/>
              <a:ext cx="224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4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40360" y="3878280"/>
              <a:ext cx="230364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 txBox="1"/>
            <p:nvPr/>
          </p:nvSpPr>
          <p:spPr>
            <a:xfrm>
              <a:off x="457200" y="3878280"/>
              <a:ext cx="368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. Km. Auto propria per aeropor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 txBox="1"/>
            <p:nvPr/>
          </p:nvSpPr>
          <p:spPr>
            <a:xfrm>
              <a:off x="6443640" y="328932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40360" y="328932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>
              <a:off x="457200" y="328932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tto e allogg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443640" y="2701800"/>
              <a:ext cx="224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 txBox="1"/>
            <p:nvPr/>
          </p:nvSpPr>
          <p:spPr>
            <a:xfrm>
              <a:off x="4140360" y="2701800"/>
              <a:ext cx="230364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 txBox="1"/>
            <p:nvPr/>
          </p:nvSpPr>
          <p:spPr>
            <a:xfrm>
              <a:off x="457200" y="2701800"/>
              <a:ext cx="368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>
              <a:off x="6443640" y="1700280"/>
              <a:ext cx="224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 txBox="1"/>
            <p:nvPr/>
          </p:nvSpPr>
          <p:spPr>
            <a:xfrm>
              <a:off x="4140360" y="1700280"/>
              <a:ext cx="230364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 txBox="1"/>
            <p:nvPr/>
          </p:nvSpPr>
          <p:spPr>
            <a:xfrm>
              <a:off x="457200" y="1700280"/>
              <a:ext cx="368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57200" y="170028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7200" y="2701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57200" y="32893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7200" y="3878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7200" y="4879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57200" y="54687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57200" y="6056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7200" y="664524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7200" y="1700280"/>
              <a:ext cx="0" cy="4944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0360" y="1700280"/>
              <a:ext cx="0" cy="4944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443640" y="1700280"/>
              <a:ext cx="0" cy="4944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686800" y="1700280"/>
              <a:ext cx="0" cy="4944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VORO DIPEND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IMA DISCRIMIN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ssioni nel comune sede di lav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ssione fuori comune sede di lav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604360" y="6656400"/>
            <a:ext cx="552600" cy="2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ISSIONE IN ITALIA 1 GIO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457200" y="1700280"/>
            <a:ext cx="8229600" cy="5302080"/>
            <a:chOff x="457200" y="1700280"/>
            <a:chExt cx="8229600" cy="5302080"/>
          </a:xfrm>
        </p:grpSpPr>
        <p:sp>
          <p:nvSpPr>
            <p:cNvPr id="653" name=""/>
            <p:cNvSpPr txBox="1"/>
            <p:nvPr/>
          </p:nvSpPr>
          <p:spPr>
            <a:xfrm>
              <a:off x="6443640" y="626904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,4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40360" y="641340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 txBox="1"/>
            <p:nvPr/>
          </p:nvSpPr>
          <p:spPr>
            <a:xfrm>
              <a:off x="457200" y="626904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foniche (tot.5,49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>
              <a:off x="6443640" y="5826240"/>
              <a:ext cx="224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40360" y="5826240"/>
              <a:ext cx="230364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 txBox="1"/>
            <p:nvPr/>
          </p:nvSpPr>
          <p:spPr>
            <a:xfrm>
              <a:off x="457200" y="5826240"/>
              <a:ext cx="368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ere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 txBox="1"/>
            <p:nvPr/>
          </p:nvSpPr>
          <p:spPr>
            <a:xfrm>
              <a:off x="6443640" y="523728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40360" y="523728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 txBox="1"/>
            <p:nvPr/>
          </p:nvSpPr>
          <p:spPr>
            <a:xfrm>
              <a:off x="457200" y="523728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cheggio aeropor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 txBox="1"/>
            <p:nvPr/>
          </p:nvSpPr>
          <p:spPr>
            <a:xfrm>
              <a:off x="6443640" y="4235400"/>
              <a:ext cx="224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4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40360" y="4235400"/>
              <a:ext cx="230364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 txBox="1"/>
            <p:nvPr/>
          </p:nvSpPr>
          <p:spPr>
            <a:xfrm>
              <a:off x="457200" y="4235400"/>
              <a:ext cx="368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. Km. Auto propria per aeropor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 txBox="1"/>
            <p:nvPr/>
          </p:nvSpPr>
          <p:spPr>
            <a:xfrm>
              <a:off x="6443640" y="364644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40360" y="364644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 txBox="1"/>
            <p:nvPr/>
          </p:nvSpPr>
          <p:spPr>
            <a:xfrm>
              <a:off x="457200" y="364644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tto e allogg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43640" y="2701800"/>
              <a:ext cx="224316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40360" y="2701800"/>
              <a:ext cx="230364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457200" y="2701800"/>
              <a:ext cx="368316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 (non ammess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6443640" y="1700280"/>
              <a:ext cx="224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 txBox="1"/>
            <p:nvPr/>
          </p:nvSpPr>
          <p:spPr>
            <a:xfrm>
              <a:off x="4140360" y="1700280"/>
              <a:ext cx="230364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 txBox="1"/>
            <p:nvPr/>
          </p:nvSpPr>
          <p:spPr>
            <a:xfrm>
              <a:off x="457200" y="1700280"/>
              <a:ext cx="368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57200" y="170028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7200" y="2701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57200" y="36464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7200" y="42354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7200" y="5237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7200" y="58262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7200" y="64134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7200" y="700236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57200" y="1700280"/>
              <a:ext cx="0" cy="53020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40360" y="1700280"/>
              <a:ext cx="0" cy="5302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43640" y="1700280"/>
              <a:ext cx="0" cy="5302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686800" y="1700280"/>
              <a:ext cx="0" cy="53020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PENDENTE DI TER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1844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DIVIDUAZIONE COMUNE SEDE LAV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) Sede di servizio (in connessione con la qualificazione, da individuare con rig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) Luogo ove si svolge materialmente l’inca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8604360" y="6656400"/>
            <a:ext cx="552600" cy="2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SEMPIO OPZIONE 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uogo di servizio : 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uogo svolgimento incarico : Mil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ssione Roma – Milano : regole del fuori Comune (vedasi esempio segu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ISSIONE 1 GIO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457200" y="1700280"/>
            <a:ext cx="8229600" cy="4944960"/>
            <a:chOff x="457200" y="1700280"/>
            <a:chExt cx="8229600" cy="4944960"/>
          </a:xfrm>
        </p:grpSpPr>
        <p:sp>
          <p:nvSpPr>
            <p:cNvPr id="696" name=""/>
            <p:cNvSpPr/>
            <p:nvPr/>
          </p:nvSpPr>
          <p:spPr>
            <a:xfrm>
              <a:off x="6443640" y="605628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 txBox="1"/>
            <p:nvPr/>
          </p:nvSpPr>
          <p:spPr>
            <a:xfrm>
              <a:off x="4140360" y="605628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 txBox="1"/>
            <p:nvPr/>
          </p:nvSpPr>
          <p:spPr>
            <a:xfrm>
              <a:off x="457200" y="605628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fonich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 txBox="1"/>
            <p:nvPr/>
          </p:nvSpPr>
          <p:spPr>
            <a:xfrm>
              <a:off x="6443640" y="5468760"/>
              <a:ext cx="224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3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 txBox="1"/>
            <p:nvPr/>
          </p:nvSpPr>
          <p:spPr>
            <a:xfrm>
              <a:off x="4140360" y="5468760"/>
              <a:ext cx="230364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457200" y="5468760"/>
              <a:ext cx="368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ereo (magg.5%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 txBox="1"/>
            <p:nvPr/>
          </p:nvSpPr>
          <p:spPr>
            <a:xfrm>
              <a:off x="6443640" y="487980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30,0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 txBox="1"/>
            <p:nvPr/>
          </p:nvSpPr>
          <p:spPr>
            <a:xfrm>
              <a:off x="4140360" y="487980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 txBox="1"/>
            <p:nvPr/>
          </p:nvSpPr>
          <p:spPr>
            <a:xfrm>
              <a:off x="457200" y="487980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cheggio aeropor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 txBox="1"/>
            <p:nvPr/>
          </p:nvSpPr>
          <p:spPr>
            <a:xfrm>
              <a:off x="6443640" y="3878280"/>
              <a:ext cx="224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4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40360" y="3878280"/>
              <a:ext cx="230364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457200" y="3878280"/>
              <a:ext cx="368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. Km. Auto propria per aeropor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 txBox="1"/>
            <p:nvPr/>
          </p:nvSpPr>
          <p:spPr>
            <a:xfrm>
              <a:off x="6443640" y="328932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140360" y="328932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 txBox="1"/>
            <p:nvPr/>
          </p:nvSpPr>
          <p:spPr>
            <a:xfrm>
              <a:off x="457200" y="328932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tto e allogg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 txBox="1"/>
            <p:nvPr/>
          </p:nvSpPr>
          <p:spPr>
            <a:xfrm>
              <a:off x="6443640" y="2701800"/>
              <a:ext cx="224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4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140360" y="2701800"/>
              <a:ext cx="230364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 txBox="1"/>
            <p:nvPr/>
          </p:nvSpPr>
          <p:spPr>
            <a:xfrm>
              <a:off x="457200" y="2701800"/>
              <a:ext cx="368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 txBox="1"/>
            <p:nvPr/>
          </p:nvSpPr>
          <p:spPr>
            <a:xfrm>
              <a:off x="6443640" y="1700280"/>
              <a:ext cx="224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 txBox="1"/>
            <p:nvPr/>
          </p:nvSpPr>
          <p:spPr>
            <a:xfrm>
              <a:off x="4140360" y="1700280"/>
              <a:ext cx="230364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 txBox="1"/>
            <p:nvPr/>
          </p:nvSpPr>
          <p:spPr>
            <a:xfrm>
              <a:off x="457200" y="1700280"/>
              <a:ext cx="368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7200" y="170028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7200" y="2701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" y="32893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7200" y="3878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7200" y="4879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" y="54687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7200" y="6056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57200" y="664524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7200" y="1700280"/>
              <a:ext cx="0" cy="4944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140360" y="1700280"/>
              <a:ext cx="0" cy="4944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443640" y="1700280"/>
              <a:ext cx="0" cy="4944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686800" y="1700280"/>
              <a:ext cx="0" cy="4944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SEMPIO OPZIONE 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uogo di servizio : 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uogo svolgimento incarico : Mil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ssione Roma – Milano : regole del casa-lavoro (vedasi esempio segu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ISSIONE 3 GIOR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457200" y="1700280"/>
            <a:ext cx="8229600" cy="4944960"/>
            <a:chOff x="457200" y="1700280"/>
            <a:chExt cx="8229600" cy="4944960"/>
          </a:xfrm>
        </p:grpSpPr>
        <p:sp>
          <p:nvSpPr>
            <p:cNvPr id="735" name=""/>
            <p:cNvSpPr/>
            <p:nvPr/>
          </p:nvSpPr>
          <p:spPr>
            <a:xfrm>
              <a:off x="6443640" y="605628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 txBox="1"/>
            <p:nvPr/>
          </p:nvSpPr>
          <p:spPr>
            <a:xfrm>
              <a:off x="4140360" y="605628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 txBox="1"/>
            <p:nvPr/>
          </p:nvSpPr>
          <p:spPr>
            <a:xfrm>
              <a:off x="457200" y="605628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fonich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43640" y="5468760"/>
              <a:ext cx="224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 txBox="1"/>
            <p:nvPr/>
          </p:nvSpPr>
          <p:spPr>
            <a:xfrm>
              <a:off x="4140360" y="5468760"/>
              <a:ext cx="230364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5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 txBox="1"/>
            <p:nvPr/>
          </p:nvSpPr>
          <p:spPr>
            <a:xfrm>
              <a:off x="457200" y="5468760"/>
              <a:ext cx="368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ereo (magg.5%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443640" y="487980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 txBox="1"/>
            <p:nvPr/>
          </p:nvSpPr>
          <p:spPr>
            <a:xfrm>
              <a:off x="4140360" y="487980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>
              <a:off x="457200" y="487980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cheggio aeropor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443640" y="3878280"/>
              <a:ext cx="224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 txBox="1"/>
            <p:nvPr/>
          </p:nvSpPr>
          <p:spPr>
            <a:xfrm>
              <a:off x="4140360" y="3878280"/>
              <a:ext cx="230364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4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>
              <a:off x="457200" y="3878280"/>
              <a:ext cx="368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. Km. Auto propria per aeropor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443640" y="3289320"/>
              <a:ext cx="224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 txBox="1"/>
            <p:nvPr/>
          </p:nvSpPr>
          <p:spPr>
            <a:xfrm>
              <a:off x="4140360" y="3289320"/>
              <a:ext cx="230364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 txBox="1"/>
            <p:nvPr/>
          </p:nvSpPr>
          <p:spPr>
            <a:xfrm>
              <a:off x="457200" y="3289320"/>
              <a:ext cx="3683160" cy="58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tto e allogg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443640" y="2701800"/>
              <a:ext cx="224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 txBox="1"/>
            <p:nvPr/>
          </p:nvSpPr>
          <p:spPr>
            <a:xfrm>
              <a:off x="4140360" y="2701800"/>
              <a:ext cx="230364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4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 txBox="1"/>
            <p:nvPr/>
          </p:nvSpPr>
          <p:spPr>
            <a:xfrm>
              <a:off x="457200" y="2701800"/>
              <a:ext cx="3683160" cy="58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 txBox="1"/>
            <p:nvPr/>
          </p:nvSpPr>
          <p:spPr>
            <a:xfrm>
              <a:off x="6443640" y="1700280"/>
              <a:ext cx="224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 txBox="1"/>
            <p:nvPr/>
          </p:nvSpPr>
          <p:spPr>
            <a:xfrm>
              <a:off x="4140360" y="1700280"/>
              <a:ext cx="230364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 txBox="1"/>
            <p:nvPr/>
          </p:nvSpPr>
          <p:spPr>
            <a:xfrm>
              <a:off x="457200" y="1700280"/>
              <a:ext cx="368316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57200" y="170028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7200" y="2701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7200" y="32893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57200" y="3878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57200" y="4879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57200" y="54687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7200" y="6056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57200" y="664524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" y="1700280"/>
              <a:ext cx="0" cy="4944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140360" y="1700280"/>
              <a:ext cx="0" cy="4944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43640" y="1700280"/>
              <a:ext cx="0" cy="4944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686800" y="1700280"/>
              <a:ext cx="0" cy="4944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.CO.CO. ART. 50 LETT. C-BI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57200" y="1844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DIVIDUAZIONE COMUNE SEDE LAV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) Un unico luogo ove normalmente viene svolta l’attività (in connessione con il contratto, da individuare con rig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) Pluralità di luoghi ove si svolge normalmente l’attività (esempio amm.ri di società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8604360" y="6656400"/>
            <a:ext cx="552600" cy="2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SEMPIO OPZIONE 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uogo di residenza : Mo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uogo svolgimento incarico : Mil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mborsi Monza – Milano : regole del casa-lavoro (tassa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mborsi per allontanamenti da Milano : regole del fuori Comune (vedansi esempi seguen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IQUIDAZIONE RIMBORS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ONZA - MIL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468360" y="2637000"/>
            <a:ext cx="8229600" cy="3184560"/>
            <a:chOff x="468360" y="2637000"/>
            <a:chExt cx="8229600" cy="3184560"/>
          </a:xfrm>
        </p:grpSpPr>
        <p:sp>
          <p:nvSpPr>
            <p:cNvPr id="778" name=""/>
            <p:cNvSpPr/>
            <p:nvPr/>
          </p:nvSpPr>
          <p:spPr>
            <a:xfrm>
              <a:off x="6454800" y="4876920"/>
              <a:ext cx="224316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4222800" y="4876920"/>
              <a:ext cx="223200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 txBox="1"/>
            <p:nvPr/>
          </p:nvSpPr>
          <p:spPr>
            <a:xfrm>
              <a:off x="468360" y="4876920"/>
              <a:ext cx="375444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ricevuta fiscale pas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54800" y="4229280"/>
              <a:ext cx="22431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>
              <a:off x="4222800" y="4228920"/>
              <a:ext cx="2232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 txBox="1"/>
            <p:nvPr/>
          </p:nvSpPr>
          <p:spPr>
            <a:xfrm>
              <a:off x="468360" y="4228920"/>
              <a:ext cx="37544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tre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454800" y="3581280"/>
              <a:ext cx="22431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 txBox="1"/>
            <p:nvPr/>
          </p:nvSpPr>
          <p:spPr>
            <a:xfrm>
              <a:off x="4222800" y="3581280"/>
              <a:ext cx="2232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 txBox="1"/>
            <p:nvPr/>
          </p:nvSpPr>
          <p:spPr>
            <a:xfrm>
              <a:off x="468360" y="3581280"/>
              <a:ext cx="37544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 txBox="1"/>
            <p:nvPr/>
          </p:nvSpPr>
          <p:spPr>
            <a:xfrm>
              <a:off x="6454800" y="2637000"/>
              <a:ext cx="224316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 txBox="1"/>
            <p:nvPr/>
          </p:nvSpPr>
          <p:spPr>
            <a:xfrm>
              <a:off x="4222800" y="2637000"/>
              <a:ext cx="223200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>
              <a:off x="468360" y="2637000"/>
              <a:ext cx="375444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8360" y="263700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68360" y="3581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8360" y="4229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68360" y="48769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68360" y="582120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68360" y="2637000"/>
              <a:ext cx="0" cy="318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222800" y="2637000"/>
              <a:ext cx="0" cy="3184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454800" y="2637000"/>
              <a:ext cx="0" cy="3184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697960" y="2637000"/>
              <a:ext cx="0" cy="318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8675640" y="6656400"/>
            <a:ext cx="480960" cy="2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IQUIDAZIONE TRASFERTA MILANO - VARE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468360" y="2637000"/>
            <a:ext cx="8229600" cy="3184560"/>
            <a:chOff x="468360" y="2637000"/>
            <a:chExt cx="8229600" cy="3184560"/>
          </a:xfrm>
        </p:grpSpPr>
        <p:sp>
          <p:nvSpPr>
            <p:cNvPr id="803" name=""/>
            <p:cNvSpPr txBox="1"/>
            <p:nvPr/>
          </p:nvSpPr>
          <p:spPr>
            <a:xfrm>
              <a:off x="6454800" y="4876920"/>
              <a:ext cx="224316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222800" y="4876920"/>
              <a:ext cx="223200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 txBox="1"/>
            <p:nvPr/>
          </p:nvSpPr>
          <p:spPr>
            <a:xfrm>
              <a:off x="468360" y="4876920"/>
              <a:ext cx="375444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ricevuta fiscale pas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 txBox="1"/>
            <p:nvPr/>
          </p:nvSpPr>
          <p:spPr>
            <a:xfrm>
              <a:off x="6454800" y="4228920"/>
              <a:ext cx="22431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222800" y="4229280"/>
              <a:ext cx="2232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 txBox="1"/>
            <p:nvPr/>
          </p:nvSpPr>
          <p:spPr>
            <a:xfrm>
              <a:off x="468360" y="4228920"/>
              <a:ext cx="37544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tre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 txBox="1"/>
            <p:nvPr/>
          </p:nvSpPr>
          <p:spPr>
            <a:xfrm>
              <a:off x="6454800" y="3581280"/>
              <a:ext cx="22431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222800" y="3581280"/>
              <a:ext cx="2232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 txBox="1"/>
            <p:nvPr/>
          </p:nvSpPr>
          <p:spPr>
            <a:xfrm>
              <a:off x="468360" y="3581280"/>
              <a:ext cx="37544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 txBox="1"/>
            <p:nvPr/>
          </p:nvSpPr>
          <p:spPr>
            <a:xfrm>
              <a:off x="6454800" y="2637000"/>
              <a:ext cx="224316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 txBox="1"/>
            <p:nvPr/>
          </p:nvSpPr>
          <p:spPr>
            <a:xfrm>
              <a:off x="4222800" y="2637000"/>
              <a:ext cx="223200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 txBox="1"/>
            <p:nvPr/>
          </p:nvSpPr>
          <p:spPr>
            <a:xfrm>
              <a:off x="468360" y="2637000"/>
              <a:ext cx="375444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68360" y="263700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68360" y="3581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68360" y="4229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68360" y="48769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68360" y="582120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68360" y="2637000"/>
              <a:ext cx="0" cy="318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222800" y="2637000"/>
              <a:ext cx="0" cy="3184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454800" y="2637000"/>
              <a:ext cx="0" cy="3184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697960" y="2637000"/>
              <a:ext cx="0" cy="318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4" name="" descr=""/>
          <p:cNvPicPr/>
          <p:nvPr/>
        </p:nvPicPr>
        <p:blipFill>
          <a:blip r:embed="rId1"/>
          <a:stretch/>
        </p:blipFill>
        <p:spPr>
          <a:xfrm>
            <a:off x="8675640" y="6656400"/>
            <a:ext cx="480960" cy="2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ISSIONI NEL COMUNE SEDE DI  LAVO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GOLA GENE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DENNITÀ\DIARIE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mpre tass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IMBORSI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mpre tass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 LE P.A. LE DIARIE SONO SOPPRESSE A PARTIRE DAL 1° GENNAIO 2006 (art. 1 co.213 ss. L.266/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675640" y="6656400"/>
            <a:ext cx="480960" cy="2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SEMPIO OPZIONE 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uogo di residenza : Mo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uogo svolgimento incarico : una pluralità su Comuni diver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une di riferimento : Monza (=residen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imborsi Monza – Milano : regole del fuori Com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imborsi per allontanamenti da Milano : regole del fuori Comune (vedansi esempi seguen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IQUIDAZIONE TRASFERTA MONZA - MIL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468360" y="2637000"/>
            <a:ext cx="8229600" cy="3184560"/>
            <a:chOff x="468360" y="2637000"/>
            <a:chExt cx="8229600" cy="3184560"/>
          </a:xfrm>
        </p:grpSpPr>
        <p:sp>
          <p:nvSpPr>
            <p:cNvPr id="831" name=""/>
            <p:cNvSpPr txBox="1"/>
            <p:nvPr/>
          </p:nvSpPr>
          <p:spPr>
            <a:xfrm>
              <a:off x="6454800" y="4876920"/>
              <a:ext cx="224316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222800" y="4876920"/>
              <a:ext cx="223200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468360" y="4876920"/>
              <a:ext cx="375444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ricevuta fiscale pas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 txBox="1"/>
            <p:nvPr/>
          </p:nvSpPr>
          <p:spPr>
            <a:xfrm>
              <a:off x="6454800" y="4228920"/>
              <a:ext cx="22431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222800" y="4229280"/>
              <a:ext cx="2232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 txBox="1"/>
            <p:nvPr/>
          </p:nvSpPr>
          <p:spPr>
            <a:xfrm>
              <a:off x="468360" y="4228920"/>
              <a:ext cx="37544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tre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 txBox="1"/>
            <p:nvPr/>
          </p:nvSpPr>
          <p:spPr>
            <a:xfrm>
              <a:off x="6454800" y="3581280"/>
              <a:ext cx="22431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222800" y="3581280"/>
              <a:ext cx="2232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 txBox="1"/>
            <p:nvPr/>
          </p:nvSpPr>
          <p:spPr>
            <a:xfrm>
              <a:off x="468360" y="3581280"/>
              <a:ext cx="37544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logg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 txBox="1"/>
            <p:nvPr/>
          </p:nvSpPr>
          <p:spPr>
            <a:xfrm>
              <a:off x="6454800" y="2637000"/>
              <a:ext cx="224316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 txBox="1"/>
            <p:nvPr/>
          </p:nvSpPr>
          <p:spPr>
            <a:xfrm>
              <a:off x="4222800" y="2637000"/>
              <a:ext cx="223200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 txBox="1"/>
            <p:nvPr/>
          </p:nvSpPr>
          <p:spPr>
            <a:xfrm>
              <a:off x="468360" y="2637000"/>
              <a:ext cx="375444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68360" y="263700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68360" y="3581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68360" y="4229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68360" y="48769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8360" y="582120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8360" y="2637000"/>
              <a:ext cx="0" cy="318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22800" y="2637000"/>
              <a:ext cx="0" cy="3184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54800" y="2637000"/>
              <a:ext cx="0" cy="3184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697960" y="2637000"/>
              <a:ext cx="0" cy="318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8675640" y="6656400"/>
            <a:ext cx="480960" cy="2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IQUIDAZIONE TRASFERTA MILANO - VARE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468360" y="2637000"/>
            <a:ext cx="8229600" cy="3184560"/>
            <a:chOff x="468360" y="2637000"/>
            <a:chExt cx="8229600" cy="3184560"/>
          </a:xfrm>
        </p:grpSpPr>
        <p:sp>
          <p:nvSpPr>
            <p:cNvPr id="856" name=""/>
            <p:cNvSpPr txBox="1"/>
            <p:nvPr/>
          </p:nvSpPr>
          <p:spPr>
            <a:xfrm>
              <a:off x="6454800" y="4876920"/>
              <a:ext cx="224316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222800" y="4876920"/>
              <a:ext cx="223200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 txBox="1"/>
            <p:nvPr/>
          </p:nvSpPr>
          <p:spPr>
            <a:xfrm>
              <a:off x="468360" y="4876920"/>
              <a:ext cx="375444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ricevuta fiscale pas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 txBox="1"/>
            <p:nvPr/>
          </p:nvSpPr>
          <p:spPr>
            <a:xfrm>
              <a:off x="6454800" y="4228920"/>
              <a:ext cx="22431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222800" y="4229280"/>
              <a:ext cx="2232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 txBox="1"/>
            <p:nvPr/>
          </p:nvSpPr>
          <p:spPr>
            <a:xfrm>
              <a:off x="468360" y="4228920"/>
              <a:ext cx="37544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tre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 txBox="1"/>
            <p:nvPr/>
          </p:nvSpPr>
          <p:spPr>
            <a:xfrm>
              <a:off x="6454800" y="3581280"/>
              <a:ext cx="22431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222800" y="3581280"/>
              <a:ext cx="2232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 txBox="1"/>
            <p:nvPr/>
          </p:nvSpPr>
          <p:spPr>
            <a:xfrm>
              <a:off x="468360" y="3581280"/>
              <a:ext cx="37544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 txBox="1"/>
            <p:nvPr/>
          </p:nvSpPr>
          <p:spPr>
            <a:xfrm>
              <a:off x="6454800" y="2637000"/>
              <a:ext cx="224316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 txBox="1"/>
            <p:nvPr/>
          </p:nvSpPr>
          <p:spPr>
            <a:xfrm>
              <a:off x="4222800" y="2637000"/>
              <a:ext cx="223200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 txBox="1"/>
            <p:nvPr/>
          </p:nvSpPr>
          <p:spPr>
            <a:xfrm>
              <a:off x="468360" y="2637000"/>
              <a:ext cx="375444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68360" y="263700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68360" y="3581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68360" y="4229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68360" y="48769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68360" y="582120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8360" y="2637000"/>
              <a:ext cx="0" cy="318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222800" y="2637000"/>
              <a:ext cx="0" cy="3184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454800" y="2637000"/>
              <a:ext cx="0" cy="3184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697960" y="2637000"/>
              <a:ext cx="0" cy="318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8675640" y="6656400"/>
            <a:ext cx="480960" cy="2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ARICHE ELET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ART. 50 LETT. 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457200" y="1844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ISTENZA DI REGOLE DETTATE DALL’ORGANO COMPETENTE A DELIBERARE I COMPEN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) esistono regole : i rimborsi effettuati secondo tali regole non sono mai tassati; per gli altri valgono le regole gene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) non esistono regole : valgono le regole generali del lavoro dipendente ove il Comune è la sede dell’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1"/>
          <a:stretch/>
        </p:blipFill>
        <p:spPr>
          <a:xfrm>
            <a:off x="8604360" y="6656400"/>
            <a:ext cx="552600" cy="2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CCE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n tassato il rimborso di spese viaggio\trasporto con giustificativo proveniente dal vet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675640" y="6656400"/>
            <a:ext cx="480960" cy="2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mborso chilometrico per uso auto propria: tass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M 54/E/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7d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M 232/E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675640" y="6656400"/>
            <a:ext cx="480960" cy="2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IQUIDAZIONE MISSIONE NEL COMUNE SEDE DI LAVO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68360" y="2637000"/>
            <a:ext cx="8229600" cy="3184560"/>
            <a:chOff x="468360" y="2637000"/>
            <a:chExt cx="8229600" cy="3184560"/>
          </a:xfrm>
        </p:grpSpPr>
        <p:sp>
          <p:nvSpPr>
            <p:cNvPr id="133" name=""/>
            <p:cNvSpPr/>
            <p:nvPr/>
          </p:nvSpPr>
          <p:spPr>
            <a:xfrm>
              <a:off x="6454800" y="4876920"/>
              <a:ext cx="224316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4222800" y="4876920"/>
              <a:ext cx="223200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68360" y="4876920"/>
              <a:ext cx="375444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ricevuta fiscale pas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454800" y="4228920"/>
              <a:ext cx="22431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22800" y="4229280"/>
              <a:ext cx="2232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468360" y="4228920"/>
              <a:ext cx="37544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ricevuta tax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4800" y="3581280"/>
              <a:ext cx="22431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4222800" y="3581280"/>
              <a:ext cx="2232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68360" y="3581280"/>
              <a:ext cx="37544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6454800" y="2637000"/>
              <a:ext cx="224316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4222800" y="2637000"/>
              <a:ext cx="223200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468360" y="2637000"/>
              <a:ext cx="375444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8360" y="263700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8360" y="3581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8360" y="4229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8360" y="48769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8360" y="582120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360" y="2637000"/>
              <a:ext cx="0" cy="318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22800" y="2637000"/>
              <a:ext cx="0" cy="3184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54800" y="2637000"/>
              <a:ext cx="0" cy="3184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697960" y="2637000"/>
              <a:ext cx="0" cy="318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675640" y="6656400"/>
            <a:ext cx="480960" cy="2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457200"/>
            <a:ext cx="8229600" cy="17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IQUIDAZIONE MISSIONE NEL COMUNE CON UTILIZZO AUTO DI SERVIZ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68360" y="2781360"/>
            <a:ext cx="8229600" cy="1889280"/>
            <a:chOff x="468360" y="2781360"/>
            <a:chExt cx="8229600" cy="1889280"/>
          </a:xfrm>
        </p:grpSpPr>
        <p:sp>
          <p:nvSpPr>
            <p:cNvPr id="158" name=""/>
            <p:cNvSpPr/>
            <p:nvPr/>
          </p:nvSpPr>
          <p:spPr>
            <a:xfrm>
              <a:off x="6454800" y="3726000"/>
              <a:ext cx="224316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4140360" y="3726000"/>
              <a:ext cx="231444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468360" y="3726000"/>
              <a:ext cx="367200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scontrino parchegg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6454800" y="2781360"/>
              <a:ext cx="224316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140360" y="2781360"/>
              <a:ext cx="231444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468360" y="2781360"/>
              <a:ext cx="367200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8360" y="278136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8360" y="37260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8360" y="467028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360" y="2781360"/>
              <a:ext cx="0" cy="1888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0360" y="2781360"/>
              <a:ext cx="0" cy="1888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54800" y="2781360"/>
              <a:ext cx="0" cy="1888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697960" y="2781360"/>
              <a:ext cx="0" cy="1888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IQUIDAZIONE MISSIONE CON UTILIZZO AUTO PROP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68360" y="2205000"/>
            <a:ext cx="8229600" cy="4214880"/>
            <a:chOff x="468360" y="2205000"/>
            <a:chExt cx="8229600" cy="4214880"/>
          </a:xfrm>
        </p:grpSpPr>
        <p:sp>
          <p:nvSpPr>
            <p:cNvPr id="174" name=""/>
            <p:cNvSpPr/>
            <p:nvPr/>
          </p:nvSpPr>
          <p:spPr>
            <a:xfrm>
              <a:off x="6454800" y="4827600"/>
              <a:ext cx="22431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4222800" y="4827600"/>
              <a:ext cx="2232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468360" y="4827600"/>
              <a:ext cx="37544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ontrino parchegg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54800" y="5475240"/>
              <a:ext cx="224316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4222800" y="5475240"/>
              <a:ext cx="223200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468360" y="5475240"/>
              <a:ext cx="375444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ricevuta fiscale pas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54800" y="3797280"/>
              <a:ext cx="2243160" cy="103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4222800" y="3797280"/>
              <a:ext cx="2232000" cy="103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468360" y="3797280"/>
              <a:ext cx="3754440" cy="103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mborso chilometric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0,22 x 20K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54800" y="3149640"/>
              <a:ext cx="22431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4222800" y="3149640"/>
              <a:ext cx="2232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468360" y="3149640"/>
              <a:ext cx="37544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r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6454800" y="2205000"/>
              <a:ext cx="224316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IMPONIBI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4222800" y="2205000"/>
              <a:ext cx="223200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ONIBILE IRP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468360" y="2205000"/>
              <a:ext cx="3754440" cy="9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URA DELLE SOM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8360" y="220500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8360" y="31496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8360" y="37972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8360" y="48276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8360" y="6419880"/>
              <a:ext cx="8229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8360" y="2205000"/>
              <a:ext cx="0" cy="4214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22800" y="2205000"/>
              <a:ext cx="0" cy="4214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54800" y="2205000"/>
              <a:ext cx="0" cy="4214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697960" y="2205000"/>
              <a:ext cx="0" cy="4214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8360" y="54752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cp:revision>0</cp:revision>
  <dc:subject/>
  <dc:title>PowerPoint Presentation</dc:title>
</cp:coreProperties>
</file>