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4CA4-2CA3-4A38-9C73-CCC4C73F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ECF3-8309-4B3D-8AEF-5C2ADAC7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9CFD-B0E6-4707-8368-C4F6D54A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E6C6-A3FF-4728-A1C7-7BE2A0B8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F35-4FDB-4E5B-B741-6C38ED4B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7119-36E8-4AFA-94AB-35B613A4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4F9-ADB5-4805-8E5D-BFD3EAB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404F-C48E-4E3D-9CD3-DAA99D2F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AB9-8D02-4B1F-B8FC-F00E857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6EFA-D6CC-4E88-82E7-2EFACA7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5ACA-E879-43E3-BBED-C900FA6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CE1E-A48C-4AB9-803B-1EA6646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C075-62D3-434F-B416-9059A40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F88-7983-40FC-9496-82E010D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9A7-E731-4266-BDB5-F2781BF3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BC8-F26B-490A-AF87-A5F7B6FC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E2F7-6702-4CB5-957C-C2C6354E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ED3A-5F20-40C9-9F25-1F827F25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089A-C423-4D4A-BFA6-8D343F0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8629-619B-4A97-9E22-245AF97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6DC1-E47E-41BA-8F15-61331F34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A1B1-6625-4377-8E46-5778260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0E9E-C109-4C6C-8F67-DFB6818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0F4C-620E-4E0C-A214-40D854A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1EC-B87F-468E-A736-CD057FDDCE5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BA8-A58A-44E2-96E4-12DA879CBF1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LE NOVITA’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FISCALI </a:t>
            </a:r>
            <a:br>
              <a:rPr sz="4800"/>
            </a:b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  2007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692280"/>
            <a:ext cx="85690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“ALTRE DETRAZIONI” PER LAVORO 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33720"/>
            <a:ext cx="8569080" cy="445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dito complessivo fino a 8.000 eu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840, ma con un minimo di 690 euro eff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Tempo determin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Detrazione minima 1.3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dito tra 8.001 e 15.000 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338 + 502 * (15.000 – reddito complessivo)/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dito fra 15.001 e 55.000 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338 * (55.000 – reddito complessivo)/40.000, con aumenti di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0 per reddito tra 23000 e 24000; 20 per reddito tra 24000 e 25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 tra 25000 e 26000; 40 tra 26000 e 277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 per reddito tra 27700 e 28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ddito oltre 55.00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u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uindicate detrazioni spettano anche ai percettori di redditi assimilati a quelli di lavoro dipendente di cui alle lettere a), b), c), c-bis), d), h-bis), l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692280"/>
            <a:ext cx="85690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“ALTRE DETRAZIONI” PER GLI ALTRI ASSIMI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2349360"/>
            <a:ext cx="8569080" cy="35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ddito complessivo fino a 4.800 eur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104 eu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ddito tra 4.801 e 55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104 * (55.000 – reddito compl.)/50.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ddito oltre 55.000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l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7640" y="692280"/>
            <a:ext cx="58327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ADDIZIONALI IR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205000"/>
            <a:ext cx="8569080" cy="402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MICILIO FI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ddizionale comunale sarà dovuta al Comune dove il contribuente ha il domicilio fiscale al 1° gennaio (non più il 31 dicembre) dell’anno cui l’addizionale si riferis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ò dovrà essere considerato anche dal sostituto d’imposta, che invece oggi assume il 31 dicembre ovvero la data di cessazione del rappo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mutano le regole per l’addizionale region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47640" y="692280"/>
            <a:ext cx="58327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ADDIZIONALI IR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060640"/>
            <a:ext cx="8569080" cy="454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ACCO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’addizionale comunale viene introdotto un meccanismo di acconto e sal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effettuarsi in sede di saldo e I acconto Irpe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misura dell’acconto pari al 30% dell’addizionale dovuta per l’anno precedente secondo le nuove reg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er i sostituti d’impo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ene introdotto (sempre con riferimento alla comunale) l’obbligo di calcolare e trattenere l’acconto come sopra determin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nove rate mensili a partire da marz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il saldo, restano ferme le regole attuali per le 11 rate ovvero l’unica soluzione in caso di cess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er i versamenti di saldi e acco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ranno introdotti codici tributo specifici per singolo Comune (entro 30.06.07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LIQUOTE INPS CO.CO.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981080"/>
            <a:ext cx="418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a copertura :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nsione diretta :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nza  copertura : 23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uovo massimale : 87.1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981080"/>
            <a:ext cx="4038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a copertura :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nsione diretta :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nza copertura:18,2/19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UOVE SCADENZE DICHI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276640"/>
            <a:ext cx="85690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LO 770 SEMPLIFICATO E ORDINARIO : 31 MARZO (dal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LO CUD : 28 FEBBRAIO (dal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LO UNICO IVA-IRES-IRAP : 31 LUG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SISTENZA FISCALE : TRASMISSIONE TELEMATICA 730 : 31 LUG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CI : VERSAMENTI AL 16 GIUGNO E 16 DICE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HIARAZIONE ICI : SOPPRESSIONE DELL’OBBLIGO, RINVIATA A PROVVEDIMENTO AGENZIA TERRITORIO CHE ACCERTI L’EFFETTIVA OPERATIVITA’ DEL SISTEMA DI CIRCOLAZIONE E FRUIZIONE DEI DATI CATAS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692280"/>
            <a:ext cx="8675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CENTIVI ALL’ES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12000" y="206064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OSSIBILITA’ DI DUE OP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44800"/>
            <a:ext cx="85690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MME CHE FRUISCONO DEL REGIME AGEVOLATO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azioni ante 4 lugli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azioni post 4 luglio 2006 ma a fronte di accordi ante 4 lug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MME CHE NON FRUISCONO DEL REGIME AGEVOLA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azioni post 4 luglio 2006, in assenza delle suindicate con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VITA’ MODELLO CUD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276640"/>
            <a:ext cx="85690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 GENERAL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I ECCEZIONALI : CODICI E VERSAMENTO SOSTITU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MICILIO FISCALE : NUOVA DISCIPLINA ADDIZ.LE COMU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 FISCAL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ONTO ADDIZIONALE COMUNALE ( CASELLA 7B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DICE PER NON RESIDENTI IN REGIME CONVENZION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MISSIONE  (RIS. 145/E/06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BILITA’ DEL TELE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CLUSIONE PER CESSATI ED ER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I PREVENTIVE RAPPORT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276640"/>
            <a:ext cx="8569080" cy="393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pporti da comunica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 subordi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aborazione coordinata e continuativa, anche a 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rocini di formazione e orientamento e esperienze lavorative assimil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i e rappresentanti di com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io lavoratore di co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sociato in partecipazione con apporto di lavo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I PREVENTIVE RAPPORT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276640"/>
            <a:ext cx="8569080" cy="390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empistica e modalità della comunicazione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ro il giorno antecedente a quello di instaurazione dei rapporti anche se festivo (“deroga nei casi di forza maggior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casi di urgenza : comunque, entro il giorno antecedente, data inizio e generalità e poi modello entro 5 giorni succes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a certa di trasmissione (ad esempio servizi informatici messi a disposizione dai Centri per l’Impiego, mail certificate, raccomandata a/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ttesa di modulistica specifica : modello C/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NOVITA’ FISCALI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POSTE DIR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FORMA DELL’IRP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OVE REGOLE PER LE ADDI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ELLO CUD : TRASMISSIONE TELEMATICA, VERSAMENTI SOSP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BBLIGHI DEL DATORE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PREVENTIVE PER DIPENDENTI, COCOCO, TIROC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VITA’ PREVID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IPLINA IMMO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NCHI CLIENTI E 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VERS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UOVE SCADENZE DICHIARATIVE E VERSAMENTI TELE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SCIPLINA INCARICHI ESTE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I PREVENTIVE RAPPORT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2276640"/>
            <a:ext cx="8569080" cy="368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oggetti obbligati alla comunicazion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ri di lavoro privati, anche agric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i pubblici econom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tte le pubbliche amministr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enuti della comunicazion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i anagrafici del lavoratore e del d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 di assunzione e data di cess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pologia contrattuale, qualifica professionale, trattamento economico e normativ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Destinatari della comunicazion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entro per l’impiego competente in relazione alla sede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692280"/>
            <a:ext cx="8207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I PREVENTIVE RAPPORT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276640"/>
            <a:ext cx="8569080" cy="387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odello unif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rà essere emanato apposito dec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comunicazioni saranno valide ai fini degli obblighi verso le Direzioni regionali 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comunicazioni saranno valide ai fini Inps, Inail, Inpdap e gli altri istituti previd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comunicazioni saranno valide ai fini della comunicazione alla Prefettura per gli stranie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FR E PREVIDENZA COMPLEM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421000"/>
            <a:ext cx="85690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oggetti interes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momento sono i dipendenti delle aziende private o comunque i lavoratori dipendenti iscritti all’Inps; nel breve, la riforma dovrebbe essere estesa anche al settore pub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Oggetto della sce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FR che matura a partire dal 1° gennaio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FR E PREVIDENZA COMPLEM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989000"/>
            <a:ext cx="85690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e scelte possi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tenere il TFR presso l’aziend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ccorre che tale scelta sia espressa in forma scritta entro il 30.06.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l’azienda ha più di 49 dipendenti, il TFR deve essere versato all’In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stinare il TFR ad una forma pensionistica complementare scelta liber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stinare il TFR alla forma pensionistica negoziale istituita nell’ambito del contratto collettivo applicato in azi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ssenza di opzione, il TFR è destinato alla forma pensionistica negoziale istituita in azienda o, se inesistente, al forma pensionistica complementare specificamente istituita presso l’In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FR E PREVIDENZA COMPLEM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276640"/>
            <a:ext cx="8569080" cy="37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Le tempis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ore deve effettuare, entro gennaio 2007 ovvero all’assunzione, l’informativa circa le opzioni possibi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ntro il 31.05.07 (ovvero entro 5 mesi dall’assunzione) il datore deve informare il dipendente circa la destinazione del suo TFR in assenza di opzione nei 6 me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opzione per il TFR deve essere esercitata per iscritto entro il 30.06.07 ma è revoc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opzione per la previdenza complementare, espressa o tacita, è irrevoc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Le prest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stazione pensionistica interamente sotto forma di rend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celta per la prestazione in forma di capitale, però non superiore al 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ibilità di riscatto limitate in casi di cessazione del rapporto prima di maturare i requisi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ibilità di anticipazioni sostanzialmente analoghe a quelle previste per il T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FR E PREVIDENZA COMPLEMEN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276640"/>
            <a:ext cx="8569080" cy="37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l trattamento fi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tributi ai fondi sono deducibili nel limite di 5.164,57 senza più il limite percentuale sul reddito e con possibilità di incrementi a partire dal sesto anno e per 20 anni per i lavoratori di prima occupazione successiva al 1° gennaio 20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Vi sono significativi vantaggi in tema di tassazione delle prestazioni, sia in forma di capitale che di rendit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tenuta d’imposta del 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riduzione di 0,3%/anno per ogni anno eccedente il 15° di partecipazione al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ndo ma con aliquota minima del 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ase imponibile : importo della prestazione al netto dei contributi non dedotti e de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ndimenti maturati nella fase di accumu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VITA’ IVA : LE FONTI N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781360"/>
            <a:ext cx="8569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L. 223/06 : ELENCHI, IMMOBILI, SCADENZE, V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L. 258/06 : IVA AUTOVET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L. 262/06 : DEDUCIBILITA’ A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. 296/06 : V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I ELENCHI CLIENTI E FORN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421000"/>
            <a:ext cx="8569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ZIONI IMPONIBILI, NON IMPONIBILI E ES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TI ANAGRAFICI (CON POSSIBILITA’ DI SOLA P.IVA PER IL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ISTICA E MODALITA’ DI INV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NTRO 29 APRIL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IO TELE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RME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L 223/06 ART. 37 CO. 8 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. 296/06 ART. 1 CO.3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276640"/>
            <a:ext cx="85690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 ATTIV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OBILI GESTITI IN AMBITO ISTITUZIONALE 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LLA MUT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OBILI GESTITI IN AMBITO IVA : NUOVA DISCIP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 PASSIV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CCORRE DISTINGUERE : IMMOBILI ABIT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OBILI STRUMENT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OBILI ABITATIVI : CAT. “A” ESCLUSA “A10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MOBILI STRUMENTALI : TUTTE LE CATEGORIE NON ABITATIVE E “A10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692280"/>
            <a:ext cx="734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 ABITATIVI : C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2276640"/>
            <a:ext cx="85690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ME NORM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ESENZIONE EX ART. 10 DPR 633/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STE REGISTRO E IPOCATASTALI PROPOR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MPONIBILITA’ IVA (REGISTRO IN MISURA FISSA) P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I EFFETTUATE DA IMPRESE COSTRUTTRICI ENTRO 4 ANNI DA ULTI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I EFFETTUATE DA IMPRESE CHE HANNO ESEGUITO INTERVENTI EX ART. 31 LETT. C,D,E DELLA L. 457/78, ENTRO 4 ANNI DA ULTI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ILIZIA CONVENZIO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DALITA’ CALCOLO IRP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RMATIVA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ddito compl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oneri ded. Art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se imponib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Imp. X aliquote = imp. l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richi f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ltre de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per o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noni locaz. e nu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IMPOSTA N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98108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RMATIV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ddito compl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oneri ded. Art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NTA art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duz. Carichi f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se impon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.Imp. X aliquote = imp. L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per o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detraz. canoni loca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 IMPOSTA N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692280"/>
            <a:ext cx="734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 ABITATIVI : LO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061520" y="1118160"/>
            <a:ext cx="649440" cy="1380960"/>
          </a:xfrm>
          <a:custGeom>
            <a:avLst/>
            <a:gdLst>
              <a:gd name="textAreaLeft" fmla="*/ 101520 w 649440"/>
              <a:gd name="textAreaRight" fmla="*/ 568440 w 64944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2637000"/>
            <a:ext cx="8569080" cy="24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IM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SENZIONE EX ART. 10 DPR 633/72 IN TUTTI I C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ISTR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OBBLIGATORIA, MISURA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EDILIZIA CONVENZION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 STRUMENTALI : C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1989000"/>
            <a:ext cx="856908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ME NORM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ESENZIONE EX ART. 10 DPR 633/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ATO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MPONIBILITA’ IVA P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ESSIONI EFFETTUATE DA IMPRESE COSTRUTTRICI/RISTRUTTURATRICI ENTRO 4 ANNI DA ULTI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I EFFETTUATE NEI CONFRONTI DI PRIVATI OVVERO DI ENTI NON COMMERCIALI NELL’AMBITO DELLA LORO ATTIVITA’ ISTITU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ESSIONI EFFETTUATE NEI CONFRONTI DI SOGGETTI CHE DETRAGGONO IVA IN MISURA NON SUPERIORE AL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I FACOLT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MPONIBILITA’ IVA P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ZIONE DEL CEDENTE ESERCITATA IN 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OSTA DI REGIST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FISSA 168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STE IPOTECARIE E CATASTALI : 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 STRUMENTALI : LO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989000"/>
            <a:ext cx="85690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ME NORM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ESENZIONE EX ART. 10 DPR 633/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ATO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MPONIBILITA’ IVA P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CAZIONI EFFETTUATE NEI CONFRONTI DI PRIVATI OVVERO DI ENTI NON COMMERCIALI NELL’AMBITO DELLA LORO ATTIVITA’ ISTITU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CAZIONI EFFETTUATE NEI CONFRONTI DI SOGGETTI CHE DETRAGGONO IVA IN MISURA NON SUPERIORE AL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CCEZIONI FACOLT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IMPONIBILITA’ IVA PE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ZIONE ESERCITATA IN CONTR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MPOSTA DI REGIST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REGISTRAZIONE OBBLIG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% DEL CANONE AN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RESCINDERE DAL REGIME 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55640" y="692280"/>
            <a:ext cx="770400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A IMMOBILI STRUMENTALI SOGGETTI AD IVA : LOCAZIONI IN CORSO AL 4.7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2276640"/>
            <a:ext cx="85690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VERSAMENTO TELEMATICO ENTRO 30.11.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ASMI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SOLO IL VERSAMENTO E NON IL 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LCOLO IMPO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1% DEL CANONE DAL 4.7.2006 ALLA FINE DELL’ANNUALITA’ IN CO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ERSAMENTO IN UNICA SOLU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SOLO PER DURATE SUPERIORI A 2 ANNI E CON DURATA RESIDUA SUPERIORE A 12 M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92360" y="692280"/>
            <a:ext cx="511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VORO AUTONOMO ABI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09840" y="206064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RT. 53 COMMA 1 DPR 917/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3141720"/>
            <a:ext cx="83944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MBORSI = IMPONIBILE C.P. E 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MBORSI = IMPONIBILE AI FINI DELLA RITENUTA IRP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CEZIONE : SPESE ANTICIPATE IN NOME E PER C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RESIDENTI : STESSE REGOLE, SALVO APPLICAZIONE CONVENZIONE BILATE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 APERTO : ASSUNZIONE DIRETTA DELL’ONERE DA PARTE DEL COMMITTENT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92360" y="692280"/>
            <a:ext cx="5111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VORO AUTONOMO ABI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13800" y="206064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IURISPRUDENZA E PRA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2637000"/>
            <a:ext cx="83944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.M. 32/73 : esclusione Iva per spese anticipa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nome e per c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.T.C. 785 DEL 27.01.94 : esclusione da ritenuta sui prepag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m 20/E/98 : obbligo di ritenuta sui rimborsi liquidati a fronte di previa anticipazione forfettaria da parte del commi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. 69/E/03 : obbligo di ritenuta sui rimborsi, anche a non resi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E Piemonte 18.5.06 (risposta verbale) : ritenuta sui prepag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L 223 del 4 lugli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63640" y="692280"/>
            <a:ext cx="62643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MBORSI IN ASSENZA DI COMPE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170240" y="86652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184464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LTA ATTENZIONE ALLA LETTERA DI INCA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(risposta a interpello Università Firenze, febbraio 200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R NON OPERARE RITENUTA OCCORRE CH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2924280"/>
            <a:ext cx="839448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IA PREVISTA ALCUNA FORMA DI COMP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TRATTARSI DI RIMBORSO ANALITICO DI SPESE DOCUMEN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ESENZA DI COMPENSI, ANCHE MINIMI, E/O DI RIMBORSI FORFETTARI CONDIZIONA IL TRATTAMENTO ANCHE DEGLI ANALITICI : SI RITORNA ALLA FATTISPECIE DELL’OCCA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MBORSO FORFETTARIO HA NATURA DI COMP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MBORSO CHILOMETRICO, ANCORCHE’ SIA DEFINITO ANALITICO DALLA CM 1/RT/73, SI RITIENE NON CONSENTA DI NON OPERARE RITEN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63640" y="692280"/>
            <a:ext cx="62643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TRAIBILITA’ IVA AUTOVET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4170240" y="86652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1844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GIME PROVVISORIO A SEGUITO SENTENZA 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2637000"/>
            <a:ext cx="839448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cquisti fino al 13.09.0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il recupero delle detrazioni occorr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ndere che l’Agenzia predisponga il modello e detti le rego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re il rispetto delle condizioni che l’Agenzia detter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re istanza di rimborso entro il 15.04.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cquisti dal 14.09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operanti le regole generali sul diritto alla detrazi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erenza : deve trattarsi di beni e servizi acquistati nell’esercizio di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fferenza : deve trattarsi di beni e servizi utilizzati per porre in essere operazioni attive che danno diritto ad esercitare la de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00360" y="692280"/>
            <a:ext cx="3527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ELLI INTRA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4170240" y="86652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184464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UOVI LIMITI PER LA PERIODICITA’ E REGOLE PER PASSAGGIO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2852640"/>
            <a:ext cx="83944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ESSIONI (MOD. INTRA 1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nsile : oltre 250000 (anziché 200000), entro giorno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imestrale : oltre 40000, entro mese succ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nuale : inferiori a 40000, entro 31 gennaio anno succ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CQUISTI (MOD. INTR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nsile oltre 180000 (anziché 150000), entro giorno 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nuale : inferiori a 180000, entro 31 gennaio anno succes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REVERS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2421000"/>
            <a:ext cx="856908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TTORI INTERESSATI A REG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AZIONI DI SERVIZI RESE DA SUBAPPALTATORI ED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E CELLU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E P.C. E LORO COMPO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IONE MATERIALI LAPIDEI PROVENIENTI DA CAVE E MINI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TTORE INTERESSATO DAL 1° GENNAIO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ILIZ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RME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L 223/06 ART. 35 CO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. 296/06 ART. 1 CO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LIQUOTE IRP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981080"/>
            <a:ext cx="403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o 15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15.001 a 28.000 : 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28.001 a 55.000 : 3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55.001 a 75.000 : 4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tre 75.000 :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4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981080"/>
            <a:ext cx="4038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IQUOTE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o 26.000 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26.001 a 33.500 : 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33.501 a 100.000:3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ltre 100.000 : 39% + 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ALTI E VERSAMENTI DI RITE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2276640"/>
            <a:ext cx="856908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MBITO DI APPL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CONTRATTI DI APPALTO E SUBAPPALTO DI OPERE, FORNITURE E 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EMPIS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CONTRATTI CONCLUSI DAL 4 LUGLI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GGETTI COINVOL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APPAL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MI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NV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L’APPLICAZIONE E’ SUBORDINATA AD APPOSITO DECRETO ATTUATIVO CHE AVREBBE DOVUTO ESSERE APPROVATO ENTRO 10.11.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BLIGHI DELL’APPAL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2276640"/>
            <a:ext cx="85690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GGETTI COINVOL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PPALTATORE E SUBAPPALT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L’APPALTATORE RISPONDE IN SOLIDO CON IL SUBAPPALTATORE DELLA EFFETTUAZIONE E DEL VERSAMENTO DELLE RITENUTE IRPEF E DEL VERSAMENTO DEI CONTRIBUTI PREVIDENZIALI ED ASSICURATIVI RELATIVI AL PERSONALE DIPEN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FFETTO LIBERATOR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ACQUISIZIONE DI SPECIFICA DOCUMENTAZIONE ATTESTANTE LA REGOLARITà FISCALE E CONTRIBU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GLI ENTI IMPOSITORI NOTIFICANO LE VIOLAZIONI DEL SUBAPPALTATORE ANCHE ALL’APPAL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55640" y="692280"/>
            <a:ext cx="7704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BLIGHI DEL COMMIT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170240" y="115380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2276640"/>
            <a:ext cx="8569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BLIG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OLLO DELLA CORRETTA ESECUZIONE DEGLI OBBLIGHI DELL’APPAL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5.000 A 200.000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BB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L CONTROLLO VA ESTESO ANCHE AI SUBAPPALTATOR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QUALE DEVE ESSERE IL CONTROLLO IN ASSENZA DI SUBAPPALTI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03280" y="692280"/>
            <a:ext cx="5905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RATTI DI COLLABO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276640"/>
            <a:ext cx="8569080" cy="390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e trattarsi di esperti di provata competenz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’oggetto dell’incarico deve corrispondere a obiettivi o    progetti specific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’amministrazione deve aver accertato l’impossibilità oggettiva di utilizzare risorse inte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a prestazione deve essere temporanea ed altamente qualifica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e amministrazioni pubbliche devono disciplinare procedure comparativ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3280" y="692280"/>
            <a:ext cx="6913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DETRAZIONI PER CARICHI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133720"/>
            <a:ext cx="8569080" cy="43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iu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porto base è di 800 euro, ma spetta in base al seguente meccanism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redd.compl. fino a 15.000 : 800 – 110*redd.compl./1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redd.compl. tra 15000 e 40.000 : 6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redd.compl. tra 40.000 e 80.000 : 690*(80000-redd.compl)/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redd. compl. oltre 80000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i seguenti aumenti : 10 euro per reddito fra 29000 e 29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 euro per reddito fra 29200 e 34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0 euro per reddito fra 34700 e 3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 euro per reddito fra 35000 e 35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0 euro per reddito fra 35100 e 35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692280"/>
            <a:ext cx="6913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DETRAZIONI PER CARICHI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170240" y="793440"/>
            <a:ext cx="432000" cy="1380960"/>
          </a:xfrm>
          <a:custGeom>
            <a:avLst/>
            <a:gdLst>
              <a:gd name="textAreaLeft" fmla="*/ 67320 w 432000"/>
              <a:gd name="textAreaRight" fmla="*/ 378000 w 4320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73360"/>
            <a:ext cx="9144000" cy="524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igl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orto base : 800 euro per ciascun fi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particola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900 euro per ciascun figlio di età inferiore a tre ann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umento di 220 euro per ciascun figlio portatore di handica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per contribuenti con più di tre figli, aumento di 200 euro per figlio a partire dal pr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Fruibi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meccanismo di base : (95.000 – reddito complessivo)/95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per ogni figlio successivo al 1°, l’importo di 95.000 è aumentato di 15.000 per ciascun figlio (con intero incremento già sul pr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ipartizione car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0% per ciascun genitore ovvero 100% nel caso di coniuge a ca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ibilità del 100% al genitore con reddito più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l’altro genitore manca, opzione per la detrazione coniuge sul 1° fi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parazione : 100% al coniuge affidatario (50 per affidamento congiunto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692280"/>
            <a:ext cx="6913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DETRAZIONI PER CARICHI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133720"/>
            <a:ext cx="856908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tri soggetti a ca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’importo è di euro 7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da ripartire fra coloro che vi hanno diritt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la condizione è quella della convivenza ovvero della percezione di assegno alimentare non risultante da provvedimento dell’autorità giudiz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apporto di fruibilità è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80.000 – reddito complessivo)/80.000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692280"/>
            <a:ext cx="6913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DETRAZIONI PER CARICHI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133720"/>
            <a:ext cx="8569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dizione di familiare a ca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a fissato un reddito complessivo non superiore a 2.840,5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lordo degli oneri deducibil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utando anche le retribuzioni erogate da enti e organismi internazionali, rappresentanze diplomatiche e consolari e missioni, nonché quelle corrisposte dalla Santa Sede, dagli enti gestiti direttamente da essa e dagli enti centrali della Chiesa cattol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ttanza detr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lla muta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detrazioni sono rapportate a m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etono a partire dal mese in cui si sono verificate le condizion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ssano a partire dal mese successivo a quello in cui sono cessate le condizioni richies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03280" y="692280"/>
            <a:ext cx="69138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NUOVE “ALTRE DETRAZION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082760" y="954000"/>
            <a:ext cx="606600" cy="1380960"/>
          </a:xfrm>
          <a:custGeom>
            <a:avLst/>
            <a:gdLst>
              <a:gd name="textAreaLeft" fmla="*/ 94680 w 606600"/>
              <a:gd name="textAreaRight" fmla="*/ 531000 w 606600"/>
              <a:gd name="textAreaTop" fmla="*/ 345240 h 1380960"/>
              <a:gd name="textAreaBottom" fmla="*/ 1035720 h 138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06064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2421000"/>
            <a:ext cx="8569080" cy="28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TTANO PER LE SEGUENTI TIPOLOGIE REDDITUAL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VORO DIPENDENTE E ASSIMILATI, con distinzione f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tere a, b, c, c-bis, d, h-bis,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e lettere nell’art. 50 Tu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udio Tributario  Paolo Parodi </a:t>
            </a: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lastPrinted>2005-01-12T16:44:32Z</cp:lastPrinted>
  <dcterms:modified xsi:type="dcterms:W3CDTF">2007-02-02T08:54:30Z</dcterms:modified>
  <cp:revision>226</cp:revision>
  <dc:subject/>
  <dc:title>PowerPoint Presentation</dc:title>
</cp:coreProperties>
</file>