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590E4-EDC8-425B-BA50-15D0047A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F5DD7-BF5D-4EC0-BB59-CF236F83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F9B93-735A-4D53-8BEB-38ADA123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966DD-4A67-4D69-95BC-BF032F79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6157-EAE8-4DAE-A8E7-1A287C41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5EDD-9C03-472E-9BFD-C1F356E6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20D3-C828-4573-93F1-5B92474F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67E0-2ABF-4D63-9103-F45A68FD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14B9-10ED-4471-98D8-CBE73D73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E309-3031-451F-BC55-1E2469B5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7B9E-EE31-4C8E-9908-2A82F257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1AB39-A3FD-48C1-A9E7-3526E705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E9EC-1C5C-4E62-88A3-0D0C5281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CCD4-667F-424A-91BE-8350945E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9856-9FBD-4604-9DDC-CD877DD9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8472-48AA-41C5-99DA-DDE09949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BD71-D96D-4BB6-9EB0-F6CE1EB5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05408-8F5C-40DC-B4EF-ADBF059C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B1844-0DA9-4B6B-B9E8-E3360560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ACC13-1E12-464E-926D-8B0EB773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7E017-B9FB-4782-9E48-D905CD9E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B5C49-6AD5-4E79-A9A8-B92E75E3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CF532-6613-42AD-AC8D-0AD46A23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7A985-542E-46FC-B474-7B33B621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C597-89D5-4180-B965-7F66C0387C3F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84ED-4D78-42E1-B3D3-6C1636C71479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4464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it-IT" sz="4800" spc="-1" strike="noStrike">
                <a:solidFill>
                  <a:srgbClr val="ffffff"/>
                </a:solidFill>
                <a:latin typeface="Arial"/>
              </a:rPr>
              <a:t>GLI OBBLIGHI</a:t>
            </a:r>
            <a:br>
              <a:rPr sz="4800"/>
            </a:br>
            <a:r>
              <a:rPr b="1" lang="it-IT" sz="4800" spc="-1" strike="noStrike">
                <a:solidFill>
                  <a:srgbClr val="ffffff"/>
                </a:solidFill>
                <a:latin typeface="Arial"/>
              </a:rPr>
              <a:t>DEL SOSTITUTO D’IMPOSTA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MOD 770 ORDINARIO</a:t>
            </a:r>
            <a:br>
              <a:rPr sz="4400"/>
            </a:br>
            <a:r>
              <a:rPr b="0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ENUTI</a:t>
            </a:r>
            <a:br>
              <a:rPr sz="2800"/>
            </a:b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REDDITI DI CAPITALE</a:t>
            </a:r>
            <a:br>
              <a:rPr sz="2800"/>
            </a:b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CONTRIBUTI AD IMPRESE (ART. 28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COMMA 2 DPR 600)</a:t>
            </a:r>
            <a:br>
              <a:rPr sz="2800"/>
            </a:b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ESPROPRI (l. 413/91)</a:t>
            </a:r>
            <a:br>
              <a:rPr sz="2800"/>
            </a:b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PREMI E VINCITE (ART.30 DPR 600)</a:t>
            </a:r>
            <a:br>
              <a:rPr sz="2800"/>
            </a:br>
            <a:r>
              <a:rPr b="0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MPISTICA</a:t>
            </a:r>
            <a:br>
              <a:rPr sz="2800"/>
            </a:b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TRASMISSIONE TELEMATICA ENTRO 31 OTTOBRE 2005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STITUZION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GUAGLIO CON UTILIZZO MONTE RITENUTE LAV. DIPENDENTE : PUNTO 2 COMPILATO AL N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GUAGLIO CON UTILIZZO RITENUTE DI CATEGORIE DIVERSE O ADDIZIONAL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NTO 2 : RITENUTE TOTALI OP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NTO 3 : IMPORTO UTILIZZATO PER RESTITU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NTO 5 : IMPORTO DA VERSARE (ANCHE SE Z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MPILAZIONE SX : RIGO SX4 COL. 3 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517760" y="1146240"/>
          <a:ext cx="6330960" cy="345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7760" y="1146240"/>
                    <a:ext cx="633096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1517760" y="2011320"/>
          <a:ext cx="6102360" cy="391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7760" y="2011320"/>
                    <a:ext cx="6102360" cy="39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517760" y="2681280"/>
          <a:ext cx="6102360" cy="322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7760" y="2681280"/>
                    <a:ext cx="610236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517760" y="1376280"/>
          <a:ext cx="6102360" cy="34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7760" y="1376280"/>
                    <a:ext cx="610236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511280" y="1028880"/>
          <a:ext cx="612144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1028880"/>
                    <a:ext cx="6121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511280" y="1319040"/>
          <a:ext cx="6121440" cy="421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1319040"/>
                    <a:ext cx="6121440" cy="42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511280" y="843120"/>
          <a:ext cx="6121440" cy="51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843120"/>
                    <a:ext cx="612144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517760" y="793800"/>
          <a:ext cx="61023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7760" y="793800"/>
                    <a:ext cx="61023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ROFILI NORMATI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ORMATIVA SOSTANZ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PR 917/86 : 6 CATEGORIE REDDITU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ORMATIVA PROCED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PR 600/73 : ART. DA 23 A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NORMATIVA SOSTANZ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 CATEGORIE REDDITUALI DEL DPR 917/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DDITI FONDI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DDITI DI CAPI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DDITI DI LAVORO DIPENDENTE (ART.49 E 51) E ASSIMILATI (ART. 50 E 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DDITI DI LAVORO AUTONOMO (ART. 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DDITI D’I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DDITI DIVERSI (ART. 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NORMATIVA PROCED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LI OBBLIGHI DEL SOSTITUTO (DPR 600/7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T. 23 PER LAVORO DIPENDENTE (ART.49,51 TU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T. 24 PER REDDITI ASSIMILATI LAV. DIP.(ART.50,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T. 25 PER LAVORO AUTONOMO ABITUALE (53)/OCCASIONALE (67) E NON RESID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T. 28 PER CONTRIBUTI A IMPR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T. 30 PER PREMI E VINCITE (ART. 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.413/91 PER ESPROP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PR 600/73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PR 917/86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3520" y="1600200"/>
          <a:ext cx="709920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70992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2120" y="2438280"/>
            <a:ext cx="2665440" cy="881280"/>
          </a:xfrm>
          <a:custGeom>
            <a:avLst/>
            <a:gdLst>
              <a:gd name="textAreaLeft" fmla="*/ 0 w 2665440"/>
              <a:gd name="textAreaRight" fmla="*/ 2665800 w 2665440"/>
              <a:gd name="textAreaTop" fmla="*/ 0 h 881280"/>
              <a:gd name="textAreaBottom" fmla="*/ 881640 h 8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44" y="0"/>
                </a:lnTo>
                <a:lnTo>
                  <a:pt x="21600" y="10800"/>
                </a:lnTo>
                <a:lnTo>
                  <a:pt x="18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692280"/>
            <a:ext cx="763272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PR600/1973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NATURA DELLE RITEN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280" y="2590920"/>
            <a:ext cx="175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1) RITEN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’ACC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60920" y="1752480"/>
            <a:ext cx="47718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NO EFFETTUATE IN ACCO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ULL’OBBLIGAZIONE TRIBUT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CCORRE POI DICHIARAZI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MPI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LAVORO DIPENDENTE E ASSIMIL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VORO AUTONO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V. AUTONOMO NON ABITUA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TRIBUTI A IMPRE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495680"/>
            <a:ext cx="2665440" cy="576360"/>
          </a:xfrm>
          <a:custGeom>
            <a:avLst/>
            <a:gdLst>
              <a:gd name="textAreaLeft" fmla="*/ 0 w 2665440"/>
              <a:gd name="textAreaRight" fmla="*/ 2665800 w 2665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44" y="0"/>
                </a:lnTo>
                <a:lnTo>
                  <a:pt x="21600" y="10800"/>
                </a:lnTo>
                <a:lnTo>
                  <a:pt x="18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1080" y="4419720"/>
            <a:ext cx="238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2) RITENU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’IMPO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88280" y="4221000"/>
            <a:ext cx="408204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SSOLVONO DEFINITIV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OBBLIGO TRIBU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SALVO OPZIONE PER ESPROPRI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MPI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LAV. AUTONOMO NON RESID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PREMI E VINC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ESPROPR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2362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MOD 770 SEMPLIFIC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EN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LAVORO DIPENDENTE  (ART. 49 TUIR E 23 DPR 6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SSIMILATI LAV. DIP. (ART. 50 TUIR, 24 DPR 6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LAVORO AUTONOMO (ART. 53 TUIR E 25 DPR 6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LAVORO AUT. OCCASIONALE (ART. 67 TUIR, 25 DPR6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MP. PROVVIGIONALI (ART. 55 SS. TUIR, 25BIS DPR 6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 u="sng">
                <a:solidFill>
                  <a:srgbClr val="000000"/>
                </a:solidFill>
                <a:uFillTx/>
                <a:latin typeface="Times New Roman"/>
              </a:rPr>
              <a:t>QUADRI ST  E S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 IL 770 SEMPL. SE NON VI E’ OBBLIGO DI ORD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 770 ORDINARIO SE DEVE ESSERE PRESEN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AL 2005 POSSIBILE PRESENTARLI SEPAR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OGGETTI OBBLIGATI ALLA COMPILAZION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NCHE LE PROVINCE E LE UNIVERS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OGGETTI ESCLUSI DALLA COMPILAZION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OGGETTI DI CUI ALL’ART. 29 DEL DPR 600/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OSIZIONE MODELL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FRONTESPIZ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MUNICAZIONI DATI CERTIFICAZIONI LAVORO DIPENDENTE, ASSIMILATI ED ASSISTENZA FI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ARTE A : DATI GENERALI  DIP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ARTE B : DATI FISC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ARTE C : DATI PREVIDENZIALI, ASSIST. E ASS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ARTE D : ASSISTENZA FISCALE PRESTATA 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MUNICAZIONI DATI CERTIFICAZIONI LAVORO AUTONOMO, PROVVIGIONI E REDDITI DIVE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ROSPETTO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ROSPETTO S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02</cp:lastModifiedBy>
  <cp:lastPrinted>2005-01-12T16:44:32Z</cp:lastPrinted>
  <dcterms:modified xsi:type="dcterms:W3CDTF">2005-05-27T06:18:55Z</dcterms:modified>
  <cp:revision>154</cp:revision>
  <dc:subject/>
  <dc:title>PowerPoint Presentation</dc:title>
</cp:coreProperties>
</file>